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n S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220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224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592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732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067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99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734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069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401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73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71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00160" y="413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220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592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32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67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99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34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69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401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3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71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0160" y="4130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71600" y="2666880"/>
            <a:ext cx="380880" cy="18288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00520" y="3576600"/>
            <a:ext cx="2496240" cy="1117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careful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y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bin alread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220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224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592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732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067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99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734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069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401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73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71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0160" y="4130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924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971800"/>
            <a:ext cx="3429000" cy="121932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220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24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5592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732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067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399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734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069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4012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73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0716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00160" y="4130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924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2666880"/>
            <a:ext cx="838440" cy="152424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2200" y="413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220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673440"/>
            <a:ext cx="533160" cy="1557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5080" y="367344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0824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4176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7528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0844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4196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5480" y="367344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00160" y="4146480"/>
            <a:ext cx="3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2756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2971800"/>
            <a:ext cx="1904760" cy="198108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60520" y="413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796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3044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639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971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30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641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73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308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29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6240" y="413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25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604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9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7636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673440"/>
            <a:ext cx="533160" cy="192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0160" y="414648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2560" y="3581280"/>
            <a:ext cx="2058840" cy="1117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at th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 ha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te lar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7960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969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3044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639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971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306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4160" y="367344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9732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30840" y="367344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29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6240" y="413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25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604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9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2000"/>
          </a:bodyPr>
          <a:p>
            <a:pPr marL="178200" indent="-1782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Bin sort in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-1483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- Sort by mo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2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0656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3972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1828800"/>
            <a:ext cx="54900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182880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182880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182880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83960" y="228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53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552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904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76360" y="2286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6560" y="22096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3673440"/>
            <a:ext cx="533160" cy="192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00160" y="414648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33560" y="2322360"/>
            <a:ext cx="2334600" cy="1928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 i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ach ph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13040" indent="-113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93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383400" indent="-7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3400" indent="-7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93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2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383400" indent="-7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ns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3400" indent="-7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93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383400" indent="-7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ns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93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steps in sequence, so ad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70000" indent="-93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tal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3m+2n)  </a:t>
            </a:r>
            <a:r>
              <a:rPr b="1" lang="en-US" sz="2000" spc="-1" strike="noStrike">
                <a:solidFill>
                  <a:srgbClr val="063de8"/>
                </a:solidFill>
                <a:latin typeface="Monotype Sorts"/>
                <a:ea typeface="Monotype Sorts"/>
              </a:rPr>
              <a:t>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+n)  </a:t>
            </a:r>
            <a:r>
              <a:rPr b="1" lang="en-US" sz="2000" spc="-1" strike="noStrike">
                <a:solidFill>
                  <a:srgbClr val="063de8"/>
                </a:solidFill>
                <a:latin typeface="Monotype Sorts"/>
                <a:ea typeface="Monotype Sorts"/>
              </a:rPr>
              <a:t>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O(n)  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f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m&lt;&lt;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70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Radix Sort -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09440" indent="-1094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Gene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91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ase (or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adi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) in each phase can be anything suit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-91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eger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371520" indent="-7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10, 16, 100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91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Bases don’t have to be the sam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262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09440" indent="-1094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t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&gt;&gt; 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 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895480"/>
            <a:ext cx="444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dat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day;   /* 1 .. 31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month; /* 1 .. 12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int year;  /* 0 .. 99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3124080"/>
            <a:ext cx="2743200" cy="44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1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 b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3505320"/>
            <a:ext cx="274320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b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3886200"/>
            <a:ext cx="2743200" cy="440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b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Analysi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ed Radix Sort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4440" y="1752480"/>
            <a:ext cx="81054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xsort( A,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k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bin[j] = EMPTY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4440" y="277488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n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 A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the end of bin[A[i]-&gt;fi]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440" y="411480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cat bin[j] onto the end of A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46640" y="205740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5680" y="3124080"/>
            <a:ext cx="89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9640" y="44956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1752480"/>
            <a:ext cx="0" cy="373392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720" y="2057400"/>
            <a:ext cx="3213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2057400"/>
            <a:ext cx="5943600" cy="3429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9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for good overall performance where time is not a constrain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lower than quick sort, but guarante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for real-time systems where time is critic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as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gument of a function can be a func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ables flexible general purpose clas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ables table driven co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Analysi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ed Radix Sort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4440" y="1752480"/>
            <a:ext cx="81054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xsort( A,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k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bin[j] = EMPTY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4440" y="277488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n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 A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the end of bin[A[i]-&gt;fi]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4440" y="411480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cat bin[j] onto the end of A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46640" y="205740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15680" y="3124080"/>
            <a:ext cx="89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19640" y="44956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1752480"/>
            <a:ext cx="0" cy="373392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26840" y="2895480"/>
            <a:ext cx="461700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ns for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d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362320"/>
            <a:ext cx="5486400" cy="3808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Analysi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ed Radix Sort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4440" y="1752480"/>
            <a:ext cx="81054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xsort( A,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k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bin[j] = EMPTY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4440" y="277488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n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 A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the end of bin[A[i]-&gt;fi]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4440" y="411480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cat bin[j] onto the end of A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46640" y="205740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5680" y="3124080"/>
            <a:ext cx="89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9640" y="44956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1752480"/>
            <a:ext cx="0" cy="373392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2800" y="4210200"/>
            <a:ext cx="4704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el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end of the bin add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eld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2819520"/>
            <a:ext cx="5410440" cy="121896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Analysi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sed Radix Sort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4440" y="1752480"/>
            <a:ext cx="8105400" cy="100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dixsort( A,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k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bin[j] = EMPTY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4440" y="277488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n;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e A[i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 the end of bin[A[i]-&gt;fi]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4440" y="4114800"/>
            <a:ext cx="810540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j=0;j&lt;s[i];j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cat bin[j] onto the end of A;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46640" y="205740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5680" y="3124080"/>
            <a:ext cx="89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9640" y="44956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629400" y="1752480"/>
            <a:ext cx="0" cy="3733920"/>
          </a:xfrm>
          <a:prstGeom prst="line">
            <a:avLst/>
          </a:prstGeom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52800" y="3276720"/>
            <a:ext cx="3608280" cy="87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aten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s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lis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4191120"/>
            <a:ext cx="5410080" cy="9144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teration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 for each on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long a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constan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In general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f the keys are i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0, 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s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digit base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lexity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+kb)  =  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058840" y="1752480"/>
            <a:ext cx="4317120" cy="1739880"/>
            <a:chOff x="2058840" y="1752480"/>
            <a:chExt cx="4317120" cy="1739880"/>
          </a:xfrm>
        </p:grpSpPr>
        <p:sp>
          <p:nvSpPr>
            <p:cNvPr id="372" name=""/>
            <p:cNvSpPr/>
            <p:nvPr/>
          </p:nvSpPr>
          <p:spPr>
            <a:xfrm>
              <a:off x="2063520" y="1904760"/>
              <a:ext cx="4312440" cy="14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 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+ n 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kn +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n 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17840" y="312408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8840" y="220968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46440" y="220968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0640" y="2590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2924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76200" y="175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keys can be mapped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0,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o we can always obta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sorting?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constan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lvl="1" marL="445680" indent="-1713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But,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 allowed to increase with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685800" indent="-13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 tak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se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gits to repres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so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we have 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,  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say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adix sort is no better than quicksor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06200" y="2695680"/>
            <a:ext cx="5231520" cy="2028600"/>
            <a:chOff x="1906200" y="2695680"/>
            <a:chExt cx="5231520" cy="2028600"/>
          </a:xfrm>
        </p:grpSpPr>
        <p:sp>
          <p:nvSpPr>
            <p:cNvPr id="384" name=""/>
            <p:cNvSpPr/>
            <p:nvPr/>
          </p:nvSpPr>
          <p:spPr>
            <a:xfrm>
              <a:off x="2064960" y="2923920"/>
              <a:ext cx="5072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+ n 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n +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O(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 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2 log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=  O(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8840" y="32432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62760" y="32432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06200" y="26956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45040" y="270972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Radix sort is no better than quicks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other way of looking at this: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777240" indent="-15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kee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a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if we allow duplicate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keys are in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0,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),   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lt; n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  <a:p>
            <a:pPr lvl="1" marL="505080" indent="-19404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ut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f the keys must be unique,</a:t>
            </a:r>
            <a:br>
              <a:rPr sz="2400"/>
            </a:b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then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ust increase with</a:t>
            </a:r>
            <a:r>
              <a:rPr b="1" i="1" lang="en-US" sz="24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O(n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formance,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keys must lie in a restricted rang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adix Sort - Realiti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sort uses a lot of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locations for each pha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practice, this makes it difficult to achiev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st of memory management outweighs benefi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 general radix sort which runs faster than the librar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SGI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: You will need to be very efficient about memo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ion and de-allocation!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9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 S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 function exists which can convert the key to an address (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 small integer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he number of addresses (= number of bins) is not too lar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e can obta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orting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but remember it’s actuall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+ m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umber of bin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must b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onstant and sma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now know several sorting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sertion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bble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eap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Quick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of the tim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do any bet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ett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(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)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 ?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ll we know about the keys is an ordering r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No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we can compute an address from the key</a:t>
            </a:r>
            <a:br>
              <a:rPr sz="1800"/>
            </a:b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(in constant time)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then 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in sort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algorithms can provide better performanc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 Sor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marL="147240" indent="-14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the keys lie in a small, fixed ran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499680" indent="-98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71400" indent="-98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egers 0-99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671400" indent="-982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aracters ‘A’-’z’, ‘0’-’9’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19320" indent="-1227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is at most one item with each value of the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47240" indent="-147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a bin for each value of the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49968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an entry in an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each item,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49968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 the 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968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it’s bi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9680" indent="-98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it in the b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ished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81680" y="464832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 Sort: 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the keys lie in a small, fixed ran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sible key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is at most one item with each value of the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a bin for each value of the key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an entry in an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601"/>
              </a:spcBef>
              <a:buClr>
                <a:srgbClr val="063de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each item,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tim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 the key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it’s bin number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it in the bin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 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n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ished!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 + O(m) =  O(n+m)  =  O(n)      if   n &gt;&gt; 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80240" y="3635280"/>
            <a:ext cx="1400760" cy="77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391520" y="4267080"/>
            <a:ext cx="3808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648320"/>
            <a:ext cx="6858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86200" y="1295280"/>
            <a:ext cx="1447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 Sort: Caveat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 the keys lie in a small, fixed rang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50520" indent="-12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sible key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is condition is not met,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eg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&gt;&gt; n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bin sort 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 is a 32-bit integer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Clearly, this isn’t a good way to sort a few thousand integer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415800" indent="-1598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Also, </a:t>
            </a: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we may not have enough space for bins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in sort tra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59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’s no free lunch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838080"/>
            <a:ext cx="670572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Bin Sort with duplicat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is at most one item with each value of the ke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 s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99"/>
              </a:spcBef>
              <a:buClr>
                <a:srgbClr val="063de8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locate a bin for each value of the key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m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an entry in an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 of list h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601"/>
              </a:spcBef>
              <a:buClr>
                <a:srgbClr val="063de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each item,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tim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 the key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it’s bin number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a list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  </a:t>
            </a:r>
            <a:r>
              <a:rPr b="1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the list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O(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ed!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 + O(m) =  O(n+m)  =  O(n)      if   n &gt;&gt;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85480" y="152280"/>
            <a:ext cx="1058400" cy="441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x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162920" y="517680"/>
            <a:ext cx="38088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4648320"/>
            <a:ext cx="6858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orting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Generalised Bin Sort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adix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7600" indent="-208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in sort in pha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7600" indent="-208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amp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7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7600" indent="-208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hase 1 - Sort by least significant digi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97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320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5960" y="17524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 9 0 25 1 49 64 16 81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12408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12408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3680" y="312408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36840" y="312408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70360" y="312408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03880" y="312408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7040" y="312408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0560" y="3124080"/>
            <a:ext cx="5493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04080" y="3124080"/>
            <a:ext cx="53316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37240" y="3124080"/>
            <a:ext cx="53352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0240" y="358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71600" y="3581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71800" y="3581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0496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38480" y="3581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2840" y="35053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8-10T15:16:02Z</cp:lastPrinted>
  <dcterms:modified xsi:type="dcterms:W3CDTF">1999-08-09T03:29:54Z</dcterms:modified>
  <cp:revision>17</cp:revision>
  <dc:subject/>
  <dc:title>Data Structures and Algorithms</dc:title>
</cp:coreProperties>
</file>