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ibonacci Number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Iterative solution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8120" y="1525680"/>
            <a:ext cx="4753440" cy="374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ibonacci Numbers - Iterative solu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8120" y="1525680"/>
            <a:ext cx="4753440" cy="374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22560" y="1849320"/>
            <a:ext cx="4876920" cy="459000"/>
            <a:chOff x="3922560" y="1849320"/>
            <a:chExt cx="4876920" cy="459000"/>
          </a:xfrm>
        </p:grpSpPr>
        <p:sp>
          <p:nvSpPr>
            <p:cNvPr id="116" name=""/>
            <p:cNvSpPr/>
            <p:nvPr/>
          </p:nvSpPr>
          <p:spPr>
            <a:xfrm>
              <a:off x="3922560" y="1849320"/>
              <a:ext cx="4876920" cy="459000"/>
            </a:xfrm>
            <a:custGeom>
              <a:avLst/>
              <a:gdLst/>
              <a:ahLst/>
              <a:rect l="l" t="t" r="r" b="b"/>
              <a:pathLst>
                <a:path w="3072" h="289">
                  <a:moveTo>
                    <a:pt x="1024" y="0"/>
                  </a:moveTo>
                  <a:lnTo>
                    <a:pt x="1024" y="108"/>
                  </a:lnTo>
                  <a:lnTo>
                    <a:pt x="512" y="108"/>
                  </a:lnTo>
                  <a:lnTo>
                    <a:pt x="512" y="72"/>
                  </a:lnTo>
                  <a:lnTo>
                    <a:pt x="0" y="144"/>
                  </a:lnTo>
                  <a:lnTo>
                    <a:pt x="512" y="216"/>
                  </a:lnTo>
                  <a:lnTo>
                    <a:pt x="512" y="180"/>
                  </a:lnTo>
                  <a:lnTo>
                    <a:pt x="1024" y="180"/>
                  </a:lnTo>
                  <a:lnTo>
                    <a:pt x="1024" y="288"/>
                  </a:lnTo>
                  <a:lnTo>
                    <a:pt x="3071" y="288"/>
                  </a:lnTo>
                  <a:lnTo>
                    <a:pt x="3071" y="0"/>
                  </a:lnTo>
                  <a:lnTo>
                    <a:pt x="1024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040" y="1851120"/>
              <a:ext cx="331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1, f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962520" y="2514600"/>
            <a:ext cx="4353120" cy="763560"/>
            <a:chOff x="3962520" y="2514600"/>
            <a:chExt cx="4353120" cy="763560"/>
          </a:xfrm>
        </p:grpSpPr>
        <p:sp>
          <p:nvSpPr>
            <p:cNvPr id="119" name=""/>
            <p:cNvSpPr/>
            <p:nvPr/>
          </p:nvSpPr>
          <p:spPr>
            <a:xfrm>
              <a:off x="3962520" y="2514600"/>
              <a:ext cx="4351320" cy="763560"/>
            </a:xfrm>
            <a:custGeom>
              <a:avLst/>
              <a:gdLst/>
              <a:ahLst/>
              <a:rect l="l" t="t" r="r" b="b"/>
              <a:pathLst>
                <a:path w="2741" h="481">
                  <a:moveTo>
                    <a:pt x="913" y="0"/>
                  </a:moveTo>
                  <a:lnTo>
                    <a:pt x="913" y="180"/>
                  </a:lnTo>
                  <a:lnTo>
                    <a:pt x="457" y="180"/>
                  </a:lnTo>
                  <a:lnTo>
                    <a:pt x="457" y="120"/>
                  </a:lnTo>
                  <a:lnTo>
                    <a:pt x="0" y="240"/>
                  </a:lnTo>
                  <a:lnTo>
                    <a:pt x="457" y="360"/>
                  </a:lnTo>
                  <a:lnTo>
                    <a:pt x="457" y="300"/>
                  </a:lnTo>
                  <a:lnTo>
                    <a:pt x="913" y="300"/>
                  </a:lnTo>
                  <a:lnTo>
                    <a:pt x="913" y="480"/>
                  </a:lnTo>
                  <a:lnTo>
                    <a:pt x="2740" y="480"/>
                  </a:lnTo>
                  <a:lnTo>
                    <a:pt x="2740" y="0"/>
                  </a:lnTo>
                  <a:lnTo>
                    <a:pt x="913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48160" y="2516040"/>
              <a:ext cx="296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 start by solving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mallest problem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799160" y="3506760"/>
            <a:ext cx="3360600" cy="1064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use thos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olve bigger and b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aving the Small Problem Solution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 know how to calculate Fibonacci numb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8120" y="1525680"/>
            <a:ext cx="4753440" cy="374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1, f2, f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2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 k = 2; k &lt; n; k++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f1 + f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 = f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 =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22560" y="1849320"/>
            <a:ext cx="4876920" cy="459000"/>
            <a:chOff x="3922560" y="1849320"/>
            <a:chExt cx="4876920" cy="459000"/>
          </a:xfrm>
        </p:grpSpPr>
        <p:sp>
          <p:nvSpPr>
            <p:cNvPr id="126" name=""/>
            <p:cNvSpPr/>
            <p:nvPr/>
          </p:nvSpPr>
          <p:spPr>
            <a:xfrm>
              <a:off x="3922560" y="1849320"/>
              <a:ext cx="4876920" cy="459000"/>
            </a:xfrm>
            <a:custGeom>
              <a:avLst/>
              <a:gdLst/>
              <a:ahLst/>
              <a:rect l="l" t="t" r="r" b="b"/>
              <a:pathLst>
                <a:path w="3072" h="289">
                  <a:moveTo>
                    <a:pt x="1024" y="0"/>
                  </a:moveTo>
                  <a:lnTo>
                    <a:pt x="1024" y="108"/>
                  </a:lnTo>
                  <a:lnTo>
                    <a:pt x="512" y="108"/>
                  </a:lnTo>
                  <a:lnTo>
                    <a:pt x="512" y="72"/>
                  </a:lnTo>
                  <a:lnTo>
                    <a:pt x="0" y="144"/>
                  </a:lnTo>
                  <a:lnTo>
                    <a:pt x="512" y="216"/>
                  </a:lnTo>
                  <a:lnTo>
                    <a:pt x="512" y="180"/>
                  </a:lnTo>
                  <a:lnTo>
                    <a:pt x="1024" y="180"/>
                  </a:lnTo>
                  <a:lnTo>
                    <a:pt x="1024" y="288"/>
                  </a:lnTo>
                  <a:lnTo>
                    <a:pt x="3071" y="288"/>
                  </a:lnTo>
                  <a:lnTo>
                    <a:pt x="3071" y="0"/>
                  </a:lnTo>
                  <a:lnTo>
                    <a:pt x="1024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040" y="1851120"/>
              <a:ext cx="331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e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1, f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5027760" y="2592360"/>
            <a:ext cx="3360600" cy="1064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use thos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olve bigger and b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1400" y="3811680"/>
            <a:ext cx="3729240" cy="130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every stag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retain th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revious two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6360" y="3651120"/>
            <a:ext cx="2070000" cy="774720"/>
          </a:xfrm>
          <a:prstGeom prst="roundRect">
            <a:avLst>
              <a:gd name="adj" fmla="val 1665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98360" y="4038480"/>
            <a:ext cx="9385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pproach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th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re the solu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ose solutions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 solve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Fibonac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v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for the recursive cas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495680" y="1447920"/>
            <a:ext cx="3824280" cy="1008000"/>
            <a:chOff x="4495680" y="1447920"/>
            <a:chExt cx="3824280" cy="1008000"/>
          </a:xfrm>
        </p:grpSpPr>
        <p:sp>
          <p:nvSpPr>
            <p:cNvPr id="135" name=""/>
            <p:cNvSpPr/>
            <p:nvPr/>
          </p:nvSpPr>
          <p:spPr>
            <a:xfrm>
              <a:off x="4495680" y="1447920"/>
              <a:ext cx="3824280" cy="1008000"/>
            </a:xfrm>
            <a:custGeom>
              <a:avLst/>
              <a:gdLst/>
              <a:ahLst/>
              <a:rect l="l" t="t" r="r" b="b"/>
              <a:pathLst>
                <a:path w="2409" h="635">
                  <a:moveTo>
                    <a:pt x="803" y="0"/>
                  </a:moveTo>
                  <a:lnTo>
                    <a:pt x="803" y="275"/>
                  </a:lnTo>
                  <a:lnTo>
                    <a:pt x="222" y="275"/>
                  </a:lnTo>
                  <a:lnTo>
                    <a:pt x="222" y="204"/>
                  </a:lnTo>
                  <a:lnTo>
                    <a:pt x="0" y="317"/>
                  </a:lnTo>
                  <a:lnTo>
                    <a:pt x="222" y="430"/>
                  </a:lnTo>
                  <a:lnTo>
                    <a:pt x="222" y="359"/>
                  </a:lnTo>
                  <a:lnTo>
                    <a:pt x="803" y="359"/>
                  </a:lnTo>
                  <a:lnTo>
                    <a:pt x="803" y="634"/>
                  </a:lnTo>
                  <a:lnTo>
                    <a:pt x="2408" y="634"/>
                  </a:lnTo>
                  <a:lnTo>
                    <a:pt x="2408" y="0"/>
                  </a:lnTo>
                  <a:lnTo>
                    <a:pt x="803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07800" y="1449360"/>
              <a:ext cx="26121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ynamic algorith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 free lunch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pproach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th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re the solu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ose solutions for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tive Fibonac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63de8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v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for the recursive cas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0800" y="4179960"/>
            <a:ext cx="7560720" cy="1314360"/>
          </a:xfrm>
          <a:prstGeom prst="roundRect">
            <a:avLst>
              <a:gd name="adj" fmla="val 1665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other case where not knowing your algorithm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ld lea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treme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professional embarrass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inomial Coefficie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ve defin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for Fibonacci number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is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(         )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grows exponenti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s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38440" y="1463760"/>
            <a:ext cx="1421280" cy="820080"/>
            <a:chOff x="1738440" y="1463760"/>
            <a:chExt cx="1421280" cy="820080"/>
          </a:xfrm>
        </p:grpSpPr>
        <p:grpSp>
          <p:nvGrpSpPr>
            <p:cNvPr id="143" name=""/>
            <p:cNvGrpSpPr/>
            <p:nvPr/>
          </p:nvGrpSpPr>
          <p:grpSpPr>
            <a:xfrm>
              <a:off x="1738440" y="1463760"/>
              <a:ext cx="917280" cy="820080"/>
              <a:chOff x="1738440" y="1463760"/>
              <a:chExt cx="917280" cy="820080"/>
            </a:xfrm>
          </p:grpSpPr>
          <p:sp>
            <p:nvSpPr>
              <p:cNvPr id="144" name=""/>
              <p:cNvSpPr/>
              <p:nvPr/>
            </p:nvSpPr>
            <p:spPr>
              <a:xfrm>
                <a:off x="2043000" y="1509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43000" y="1814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1600" y="1463760"/>
                <a:ext cx="38412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738440" y="1463760"/>
                <a:ext cx="38412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575800" y="1662120"/>
              <a:ext cx="58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67240" y="1463760"/>
            <a:ext cx="1497600" cy="820080"/>
            <a:chOff x="3567240" y="1463760"/>
            <a:chExt cx="1497600" cy="820080"/>
          </a:xfrm>
        </p:grpSpPr>
        <p:grpSp>
          <p:nvGrpSpPr>
            <p:cNvPr id="150" name=""/>
            <p:cNvGrpSpPr/>
            <p:nvPr/>
          </p:nvGrpSpPr>
          <p:grpSpPr>
            <a:xfrm>
              <a:off x="3567240" y="1463760"/>
              <a:ext cx="917280" cy="820080"/>
              <a:chOff x="3567240" y="1463760"/>
              <a:chExt cx="917280" cy="820080"/>
            </a:xfrm>
          </p:grpSpPr>
          <p:sp>
            <p:nvSpPr>
              <p:cNvPr id="151" name=""/>
              <p:cNvSpPr/>
              <p:nvPr/>
            </p:nvSpPr>
            <p:spPr>
              <a:xfrm>
                <a:off x="3871800" y="1509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71800" y="18144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00400" y="1463760"/>
                <a:ext cx="38412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67240" y="1463760"/>
                <a:ext cx="38412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480920" y="1662120"/>
              <a:ext cx="58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38440" y="2225520"/>
            <a:ext cx="993600" cy="820080"/>
            <a:chOff x="1738440" y="2225520"/>
            <a:chExt cx="993600" cy="820080"/>
          </a:xfrm>
        </p:grpSpPr>
        <p:sp>
          <p:nvSpPr>
            <p:cNvPr id="157" name=""/>
            <p:cNvSpPr/>
            <p:nvPr/>
          </p:nvSpPr>
          <p:spPr>
            <a:xfrm>
              <a:off x="2076480" y="2271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42280" y="2576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4792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3844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652480" y="2424240"/>
            <a:ext cx="43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33720" y="2225520"/>
            <a:ext cx="1222200" cy="820080"/>
            <a:chOff x="3033720" y="2225520"/>
            <a:chExt cx="1222200" cy="820080"/>
          </a:xfrm>
        </p:grpSpPr>
        <p:sp>
          <p:nvSpPr>
            <p:cNvPr id="163" name=""/>
            <p:cNvSpPr/>
            <p:nvPr/>
          </p:nvSpPr>
          <p:spPr>
            <a:xfrm>
              <a:off x="3371760" y="227160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7560" y="2576520"/>
              <a:ext cx="67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7180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3372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633920" y="2225520"/>
            <a:ext cx="1222200" cy="820080"/>
            <a:chOff x="4633920" y="2225520"/>
            <a:chExt cx="1222200" cy="820080"/>
          </a:xfrm>
        </p:grpSpPr>
        <p:sp>
          <p:nvSpPr>
            <p:cNvPr id="168" name=""/>
            <p:cNvSpPr/>
            <p:nvPr/>
          </p:nvSpPr>
          <p:spPr>
            <a:xfrm>
              <a:off x="4956120" y="2271600"/>
              <a:ext cx="60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7560" y="257652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7200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3920" y="222552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328640" y="2424240"/>
            <a:ext cx="431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3200400"/>
            <a:ext cx="993600" cy="820080"/>
            <a:chOff x="2743200" y="3200400"/>
            <a:chExt cx="993600" cy="820080"/>
          </a:xfrm>
        </p:grpSpPr>
        <p:sp>
          <p:nvSpPr>
            <p:cNvPr id="174" name=""/>
            <p:cNvSpPr/>
            <p:nvPr/>
          </p:nvSpPr>
          <p:spPr>
            <a:xfrm>
              <a:off x="3081240" y="324648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47040" y="3551040"/>
              <a:ext cx="41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320040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43200" y="320040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567240" y="4130640"/>
            <a:ext cx="1145880" cy="820080"/>
            <a:chOff x="3567240" y="4130640"/>
            <a:chExt cx="1145880" cy="820080"/>
          </a:xfrm>
        </p:grpSpPr>
        <p:sp>
          <p:nvSpPr>
            <p:cNvPr id="179" name=""/>
            <p:cNvSpPr/>
            <p:nvPr/>
          </p:nvSpPr>
          <p:spPr>
            <a:xfrm>
              <a:off x="3990960" y="41767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1440" y="4481640"/>
              <a:ext cx="588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29000" y="413064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7240" y="4130640"/>
              <a:ext cx="384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709160" y="4253040"/>
            <a:ext cx="60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1120" y="4176720"/>
            <a:ext cx="43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24640" y="44816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64240" y="4572000"/>
            <a:ext cx="253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Binomial Coefficient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cal’s Tri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alculate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binomial coeffici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small problems first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solutions for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quires space to store previous row of the triang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eed for space trade-off typical of dynamic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48320" y="747720"/>
            <a:ext cx="2924640" cy="2435760"/>
            <a:chOff x="5548320" y="747720"/>
            <a:chExt cx="2924640" cy="2435760"/>
          </a:xfrm>
        </p:grpSpPr>
        <p:sp>
          <p:nvSpPr>
            <p:cNvPr id="190" name=""/>
            <p:cNvSpPr/>
            <p:nvPr/>
          </p:nvSpPr>
          <p:spPr>
            <a:xfrm>
              <a:off x="6919920" y="7477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5000" y="1128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24840" y="1128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19920" y="1585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0440" y="1585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29400" y="1585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58000" y="19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24840" y="19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15000" y="19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81840" y="196704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9400" y="2347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19920" y="2347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0440" y="2347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53240" y="2347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86600" y="2347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48160" y="27288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38680" y="2728800"/>
              <a:ext cx="48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1840" y="272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48320" y="272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58000" y="272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9240" y="2728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8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 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ing the birthday probl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vered that collisions are frequent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oad facto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p low to reduce collision frequ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Hash Tables do work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most of th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specially if you can test the data beforehand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cceptable hash function and table size empir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Lecture 18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ey Point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tore answers to thes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e small problem results to answer larger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space to obtain speed-up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bonacci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cursiv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Iterative (dynamic)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omial coeffici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cursive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Iterative (dynamic)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ways the most efficient search trees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ollision Frequency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on Mises parad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re are 365 days in a normal yea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thdays on the same day unlikel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How many people do I need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efore “it’s an even bet”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i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he probability is &gt; 50%)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at two have the same birthday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View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ys of the yearas the slots in a hash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birthday function” as mapping people to slo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swering von Mises’ question answers the question about the probability of collisions in a hash tabl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8200" y="1378080"/>
            <a:ext cx="244800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ways the most efficient search trees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Yes, if every key is equally prob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lling check diction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ntry at root of a balanced tree ..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asm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ccurrence in ordinary text ... 0.01%, 0.0001%, .. 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99.99+% of searches waste at least one comparison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mon words (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’,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’,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’, ...) in leaves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key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has relative frequency,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414141"/>
                </a:solidFill>
                <a:latin typeface="Times New Roman"/>
              </a:rPr>
              <a:t>r</a:t>
            </a:r>
            <a:r>
              <a:rPr b="1" i="1" lang="en-US" sz="2000" spc="-1" strike="noStrike" baseline="-25000">
                <a:solidFill>
                  <a:srgbClr val="414141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414141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in an optimal tree, we minimis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8880" y="4740120"/>
            <a:ext cx="915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2720" y="4740120"/>
            <a:ext cx="463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4000" y="4832280"/>
            <a:ext cx="261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the depth of key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the optimal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each “candidate” key as the ro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vides the keys into left and right group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ry each key in the left group as root of the left sub-tre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andidate keys: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candidates for roots of sub-tree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b-trees of optimal trees are themselves optimal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a sub-tree of an optimal tree is not optimal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n a better search tree will be produced if the sub-tree is replaced by an optimal tree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s (in order) + frequency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ich key should be placed at the root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can determine this, we can ask the same question for the left and right subtre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2120" y="1803240"/>
            <a:ext cx="7833240" cy="1270080"/>
            <a:chOff x="762120" y="1803240"/>
            <a:chExt cx="7833240" cy="1270080"/>
          </a:xfrm>
        </p:grpSpPr>
        <p:grpSp>
          <p:nvGrpSpPr>
            <p:cNvPr id="229" name=""/>
            <p:cNvGrpSpPr/>
            <p:nvPr/>
          </p:nvGrpSpPr>
          <p:grpSpPr>
            <a:xfrm>
              <a:off x="823680" y="1846440"/>
              <a:ext cx="2193120" cy="454680"/>
              <a:chOff x="823680" y="1846440"/>
              <a:chExt cx="2193120" cy="454680"/>
            </a:xfrm>
          </p:grpSpPr>
          <p:sp>
            <p:nvSpPr>
              <p:cNvPr id="230" name=""/>
              <p:cNvSpPr/>
              <p:nvPr/>
            </p:nvSpPr>
            <p:spPr>
              <a:xfrm>
                <a:off x="8236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808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380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1952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6524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63200" y="2470320"/>
              <a:ext cx="2315160" cy="393840"/>
              <a:chOff x="763200" y="2470320"/>
              <a:chExt cx="2315160" cy="393840"/>
            </a:xfrm>
          </p:grpSpPr>
          <p:sp>
            <p:nvSpPr>
              <p:cNvPr id="236" name=""/>
              <p:cNvSpPr/>
              <p:nvPr/>
            </p:nvSpPr>
            <p:spPr>
              <a:xfrm>
                <a:off x="7632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204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52480" y="247032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1348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920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762120" y="1828800"/>
              <a:ext cx="7823160" cy="1219320"/>
            </a:xfrm>
            <a:prstGeom prst="rect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7320" y="2378160"/>
              <a:ext cx="779796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1219320" y="1803240"/>
              <a:ext cx="3200400" cy="1270080"/>
              <a:chOff x="1219320" y="1803240"/>
              <a:chExt cx="3200400" cy="12700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1219320" y="1803240"/>
                <a:ext cx="1371600" cy="1270080"/>
                <a:chOff x="1219320" y="1803240"/>
                <a:chExt cx="1371600" cy="127008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1219320" y="1803240"/>
                  <a:ext cx="457200" cy="1270080"/>
                  <a:chOff x="1219320" y="1803240"/>
                  <a:chExt cx="457200" cy="12700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flipV="1">
                    <a:off x="12193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flipV="1">
                    <a:off x="16765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2133720" y="1803240"/>
                  <a:ext cx="457200" cy="1270080"/>
                  <a:chOff x="2133720" y="1803240"/>
                  <a:chExt cx="457200" cy="12700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1337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V="1">
                    <a:off x="25909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1" name=""/>
              <p:cNvGrpSpPr/>
              <p:nvPr/>
            </p:nvGrpSpPr>
            <p:grpSpPr>
              <a:xfrm>
                <a:off x="3048120" y="1803240"/>
                <a:ext cx="1371600" cy="1270080"/>
                <a:chOff x="3048120" y="1803240"/>
                <a:chExt cx="1371600" cy="127008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3048120" y="1803240"/>
                  <a:ext cx="457200" cy="1270080"/>
                  <a:chOff x="3048120" y="1803240"/>
                  <a:chExt cx="457200" cy="127008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V="1">
                    <a:off x="30481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V="1">
                    <a:off x="35053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962520" y="1803240"/>
                  <a:ext cx="457200" cy="1270080"/>
                  <a:chOff x="3962520" y="1803240"/>
                  <a:chExt cx="457200" cy="12700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 flipV="1">
                    <a:off x="39625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44197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8" name=""/>
            <p:cNvGrpSpPr/>
            <p:nvPr/>
          </p:nvGrpSpPr>
          <p:grpSpPr>
            <a:xfrm>
              <a:off x="4876920" y="1803240"/>
              <a:ext cx="3200400" cy="1270080"/>
              <a:chOff x="4876920" y="1803240"/>
              <a:chExt cx="3200400" cy="12700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4876920" y="1803240"/>
                <a:ext cx="1371600" cy="1270080"/>
                <a:chOff x="4876920" y="1803240"/>
                <a:chExt cx="1371600" cy="12700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4876920" y="1803240"/>
                  <a:ext cx="457200" cy="1270080"/>
                  <a:chOff x="4876920" y="1803240"/>
                  <a:chExt cx="457200" cy="12700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V="1">
                    <a:off x="48769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341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791320" y="1803240"/>
                  <a:ext cx="457200" cy="1270080"/>
                  <a:chOff x="5791320" y="1803240"/>
                  <a:chExt cx="457200" cy="12700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V="1">
                    <a:off x="57913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62485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6705720" y="1803240"/>
                <a:ext cx="1371600" cy="1270080"/>
                <a:chOff x="6705720" y="1803240"/>
                <a:chExt cx="1371600" cy="127008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705720" y="1803240"/>
                  <a:ext cx="457200" cy="1270080"/>
                  <a:chOff x="6705720" y="1803240"/>
                  <a:chExt cx="457200" cy="127008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 flipV="1">
                    <a:off x="67057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71629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7620120" y="1803240"/>
                  <a:ext cx="457200" cy="1270080"/>
                  <a:chOff x="7620120" y="1803240"/>
                  <a:chExt cx="457200" cy="127008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76201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V="1">
                    <a:off x="8077320" y="180324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3" name=""/>
            <p:cNvGrpSpPr/>
            <p:nvPr/>
          </p:nvGrpSpPr>
          <p:grpSpPr>
            <a:xfrm>
              <a:off x="3109680" y="1846440"/>
              <a:ext cx="2193120" cy="454680"/>
              <a:chOff x="3109680" y="1846440"/>
              <a:chExt cx="2193120" cy="454680"/>
            </a:xfrm>
          </p:grpSpPr>
          <p:sp>
            <p:nvSpPr>
              <p:cNvPr id="274" name=""/>
              <p:cNvSpPr/>
              <p:nvPr/>
            </p:nvSpPr>
            <p:spPr>
              <a:xfrm>
                <a:off x="31096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5668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0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812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9384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395680" y="1846440"/>
              <a:ext cx="2193120" cy="454680"/>
              <a:chOff x="5395680" y="1846440"/>
              <a:chExt cx="2193120" cy="454680"/>
            </a:xfrm>
          </p:grpSpPr>
          <p:sp>
            <p:nvSpPr>
              <p:cNvPr id="280" name=""/>
              <p:cNvSpPr/>
              <p:nvPr/>
            </p:nvSpPr>
            <p:spPr>
              <a:xfrm>
                <a:off x="53956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528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3100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672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244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7681680" y="1846440"/>
              <a:ext cx="913680" cy="454680"/>
              <a:chOff x="7681680" y="1846440"/>
              <a:chExt cx="913680" cy="454680"/>
            </a:xfrm>
          </p:grpSpPr>
          <p:sp>
            <p:nvSpPr>
              <p:cNvPr id="286" name=""/>
              <p:cNvSpPr/>
              <p:nvPr/>
            </p:nvSpPr>
            <p:spPr>
              <a:xfrm>
                <a:off x="7681680" y="184644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48160" y="1846440"/>
                <a:ext cx="547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125880" y="2470320"/>
              <a:ext cx="2162520" cy="393840"/>
              <a:chOff x="3125880" y="2470320"/>
              <a:chExt cx="2162520" cy="393840"/>
            </a:xfrm>
          </p:grpSpPr>
          <p:sp>
            <p:nvSpPr>
              <p:cNvPr id="289" name=""/>
              <p:cNvSpPr/>
              <p:nvPr/>
            </p:nvSpPr>
            <p:spPr>
              <a:xfrm>
                <a:off x="3125880" y="247032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5064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6216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208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54680" y="247032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411880" y="2470320"/>
              <a:ext cx="2238480" cy="393840"/>
              <a:chOff x="5411880" y="2470320"/>
              <a:chExt cx="2238480" cy="393840"/>
            </a:xfrm>
          </p:grpSpPr>
          <p:sp>
            <p:nvSpPr>
              <p:cNvPr id="295" name=""/>
              <p:cNvSpPr/>
              <p:nvPr/>
            </p:nvSpPr>
            <p:spPr>
              <a:xfrm>
                <a:off x="5411880" y="247032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7924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24480" y="247032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068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640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1200" y="2470320"/>
              <a:ext cx="943560" cy="393840"/>
              <a:chOff x="7621200" y="2470320"/>
              <a:chExt cx="943560" cy="393840"/>
            </a:xfrm>
          </p:grpSpPr>
          <p:sp>
            <p:nvSpPr>
              <p:cNvPr id="301" name=""/>
              <p:cNvSpPr/>
              <p:nvPr/>
            </p:nvSpPr>
            <p:spPr>
              <a:xfrm>
                <a:off x="76212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078400" y="247032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 and conqu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a key for the root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cho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peat the process for the sub-trees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problems are not small enoug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on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-k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H="1">
            <a:off x="6527880" y="4064040"/>
            <a:ext cx="35568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44920" y="4064040"/>
            <a:ext cx="25416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smal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pairs of adjacent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ossi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rang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85800" y="1650960"/>
            <a:ext cx="7833600" cy="1270080"/>
            <a:chOff x="685800" y="1650960"/>
            <a:chExt cx="7833600" cy="1270080"/>
          </a:xfrm>
        </p:grpSpPr>
        <p:grpSp>
          <p:nvGrpSpPr>
            <p:cNvPr id="310" name=""/>
            <p:cNvGrpSpPr/>
            <p:nvPr/>
          </p:nvGrpSpPr>
          <p:grpSpPr>
            <a:xfrm>
              <a:off x="747360" y="1693800"/>
              <a:ext cx="2193120" cy="454680"/>
              <a:chOff x="747360" y="1693800"/>
              <a:chExt cx="2193120" cy="454680"/>
            </a:xfrm>
          </p:grpSpPr>
          <p:sp>
            <p:nvSpPr>
              <p:cNvPr id="311" name=""/>
              <p:cNvSpPr/>
              <p:nvPr/>
            </p:nvSpPr>
            <p:spPr>
              <a:xfrm>
                <a:off x="7473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045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617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189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761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87240" y="2317680"/>
              <a:ext cx="2315160" cy="393840"/>
              <a:chOff x="687240" y="2317680"/>
              <a:chExt cx="2315160" cy="39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872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444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676520" y="23176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588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160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685800" y="1676520"/>
              <a:ext cx="7823160" cy="1218960"/>
            </a:xfrm>
            <a:prstGeom prst="rect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1360" y="2225520"/>
              <a:ext cx="7797600" cy="1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143000" y="1650960"/>
              <a:ext cx="3200400" cy="1270080"/>
              <a:chOff x="1143000" y="1650960"/>
              <a:chExt cx="3200400" cy="127008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1143000" y="1650960"/>
                <a:ext cx="1371600" cy="1270080"/>
                <a:chOff x="1143000" y="1650960"/>
                <a:chExt cx="1371600" cy="12700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1143000" y="1650960"/>
                  <a:ext cx="457200" cy="1270080"/>
                  <a:chOff x="1143000" y="1650960"/>
                  <a:chExt cx="457200" cy="12700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11430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V="1">
                    <a:off x="16002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057400" y="1650960"/>
                  <a:ext cx="457200" cy="1270080"/>
                  <a:chOff x="2057400" y="1650960"/>
                  <a:chExt cx="457200" cy="1270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V="1">
                    <a:off x="20574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25146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2971800" y="1650960"/>
                <a:ext cx="1371600" cy="1270080"/>
                <a:chOff x="2971800" y="1650960"/>
                <a:chExt cx="1371600" cy="127008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2971800" y="1650960"/>
                  <a:ext cx="457200" cy="1270080"/>
                  <a:chOff x="2971800" y="1650960"/>
                  <a:chExt cx="457200" cy="127008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V="1">
                    <a:off x="29718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V="1">
                    <a:off x="34290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3886200" y="1650960"/>
                  <a:ext cx="457200" cy="1270080"/>
                  <a:chOff x="3886200" y="1650960"/>
                  <a:chExt cx="457200" cy="127008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V="1">
                    <a:off x="38862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43434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9" name=""/>
            <p:cNvGrpSpPr/>
            <p:nvPr/>
          </p:nvGrpSpPr>
          <p:grpSpPr>
            <a:xfrm>
              <a:off x="4800600" y="1650960"/>
              <a:ext cx="3200400" cy="1270080"/>
              <a:chOff x="4800600" y="1650960"/>
              <a:chExt cx="3200400" cy="127008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4800600" y="1650960"/>
                <a:ext cx="1371600" cy="1270080"/>
                <a:chOff x="4800600" y="1650960"/>
                <a:chExt cx="1371600" cy="127008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800600" y="1650960"/>
                  <a:ext cx="457200" cy="1270080"/>
                  <a:chOff x="4800600" y="1650960"/>
                  <a:chExt cx="457200" cy="12700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V="1">
                    <a:off x="48006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V="1">
                    <a:off x="52578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5715000" y="1650960"/>
                  <a:ext cx="457200" cy="1270080"/>
                  <a:chOff x="5715000" y="1650960"/>
                  <a:chExt cx="457200" cy="12700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V="1">
                    <a:off x="57150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1722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6629400" y="1650960"/>
                <a:ext cx="1371600" cy="1270080"/>
                <a:chOff x="6629400" y="1650960"/>
                <a:chExt cx="1371600" cy="127008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6629400" y="1650960"/>
                  <a:ext cx="457200" cy="1270080"/>
                  <a:chOff x="6629400" y="1650960"/>
                  <a:chExt cx="457200" cy="127008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V="1">
                    <a:off x="66294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V="1">
                    <a:off x="70866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543800" y="1650960"/>
                  <a:ext cx="457200" cy="1270080"/>
                  <a:chOff x="7543800" y="1650960"/>
                  <a:chExt cx="457200" cy="12700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V="1">
                    <a:off x="75438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8001000" y="1650960"/>
                    <a:ext cx="0" cy="127008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4" name=""/>
            <p:cNvGrpSpPr/>
            <p:nvPr/>
          </p:nvGrpSpPr>
          <p:grpSpPr>
            <a:xfrm>
              <a:off x="3033360" y="1693800"/>
              <a:ext cx="2193120" cy="454680"/>
              <a:chOff x="3033360" y="1693800"/>
              <a:chExt cx="2193120" cy="454680"/>
            </a:xfrm>
          </p:grpSpPr>
          <p:sp>
            <p:nvSpPr>
              <p:cNvPr id="355" name=""/>
              <p:cNvSpPr/>
              <p:nvPr/>
            </p:nvSpPr>
            <p:spPr>
              <a:xfrm>
                <a:off x="30333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4905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477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049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621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319360" y="1693800"/>
              <a:ext cx="2193120" cy="454680"/>
              <a:chOff x="5319360" y="1693800"/>
              <a:chExt cx="2193120" cy="454680"/>
            </a:xfrm>
          </p:grpSpPr>
          <p:sp>
            <p:nvSpPr>
              <p:cNvPr id="361" name=""/>
              <p:cNvSpPr/>
              <p:nvPr/>
            </p:nvSpPr>
            <p:spPr>
              <a:xfrm>
                <a:off x="53193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65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2337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909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1481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605360" y="1693800"/>
              <a:ext cx="914040" cy="454680"/>
              <a:chOff x="7605360" y="1693800"/>
              <a:chExt cx="914040" cy="454680"/>
            </a:xfrm>
          </p:grpSpPr>
          <p:sp>
            <p:nvSpPr>
              <p:cNvPr id="367" name=""/>
              <p:cNvSpPr/>
              <p:nvPr/>
            </p:nvSpPr>
            <p:spPr>
              <a:xfrm>
                <a:off x="7605360" y="16938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972200" y="1693800"/>
                <a:ext cx="547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049560" y="2317680"/>
              <a:ext cx="2162520" cy="393840"/>
              <a:chOff x="3049560" y="2317680"/>
              <a:chExt cx="2162520" cy="393840"/>
            </a:xfrm>
          </p:grpSpPr>
          <p:sp>
            <p:nvSpPr>
              <p:cNvPr id="370" name=""/>
              <p:cNvSpPr/>
              <p:nvPr/>
            </p:nvSpPr>
            <p:spPr>
              <a:xfrm>
                <a:off x="3049560" y="23176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4304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858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3448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78360" y="23176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335560" y="2317680"/>
              <a:ext cx="2238840" cy="393840"/>
              <a:chOff x="5335560" y="2317680"/>
              <a:chExt cx="2238840" cy="393840"/>
            </a:xfrm>
          </p:grpSpPr>
          <p:sp>
            <p:nvSpPr>
              <p:cNvPr id="376" name=""/>
              <p:cNvSpPr/>
              <p:nvPr/>
            </p:nvSpPr>
            <p:spPr>
              <a:xfrm>
                <a:off x="5335560" y="23176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164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23176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6308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0880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545240" y="2317680"/>
              <a:ext cx="943560" cy="393840"/>
              <a:chOff x="7545240" y="2317680"/>
              <a:chExt cx="943560" cy="393840"/>
            </a:xfrm>
          </p:grpSpPr>
          <p:sp>
            <p:nvSpPr>
              <p:cNvPr id="382" name=""/>
              <p:cNvSpPr/>
              <p:nvPr/>
            </p:nvSpPr>
            <p:spPr>
              <a:xfrm>
                <a:off x="75452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02440" y="23176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1473120" y="1473120"/>
            <a:ext cx="1320840" cy="1549440"/>
          </a:xfrm>
          <a:custGeom>
            <a:avLst/>
            <a:gdLst>
              <a:gd name="textAreaLeft" fmla="*/ 48240 w 1320840"/>
              <a:gd name="textAreaRight" fmla="*/ 1272600 w 1320840"/>
              <a:gd name="textAreaTop" fmla="*/ 48240 h 1549440"/>
              <a:gd name="textAreaBottom" fmla="*/ 1501200 h 1549440"/>
            </a:gdLst>
            <a:ahLst/>
            <a:rect l="textAreaLeft" t="textAreaTop" r="textAreaRight" b="textAreaBottom"/>
            <a:pathLst>
              <a:path w="21600" h="25337">
                <a:moveTo>
                  <a:pt x="2699" y="0"/>
                </a:moveTo>
                <a:arcTo wR="2699" hR="2699" stAng="16200000" swAng="-5400000"/>
                <a:lnTo>
                  <a:pt x="0" y="22638"/>
                </a:lnTo>
                <a:arcTo wR="2699" hR="2699" stAng="10800000" swAng="-5400000"/>
                <a:lnTo>
                  <a:pt x="18901" y="25337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noFill/>
          <a:ln w="50760">
            <a:solidFill>
              <a:srgbClr val="00ae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00040" y="36180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6920" y="36180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09520" y="43038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3400" y="43038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3880" y="4932360"/>
            <a:ext cx="22050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+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=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28480" y="4938840"/>
            <a:ext cx="2205000" cy="45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+ 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1080" y="4938840"/>
            <a:ext cx="858240" cy="45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69360" y="4673520"/>
            <a:ext cx="711000" cy="939960"/>
          </a:xfrm>
          <a:prstGeom prst="ellipse">
            <a:avLst/>
          </a:prstGeom>
          <a:noFill/>
          <a:ln w="507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756920" y="4100400"/>
            <a:ext cx="70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Cost matrix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j,j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Costs of </a:t>
            </a:r>
            <a:br>
              <a:rPr sz="2000"/>
            </a:b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one-element ‘trees’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j,k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sts of best  tree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k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396" name="obs_cost" descr=""/>
          <p:cNvPicPr/>
          <p:nvPr/>
        </p:nvPicPr>
        <p:blipFill>
          <a:blip r:embed="rId1"/>
          <a:stretch/>
        </p:blipFill>
        <p:spPr>
          <a:xfrm>
            <a:off x="4267080" y="1562040"/>
            <a:ext cx="3971880" cy="36194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977640" y="137160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Courier New"/>
              </a:rPr>
              <a:t>C</a:t>
            </a:r>
            <a:r>
              <a:rPr b="1" lang="en-US" sz="2400" spc="-1" strike="noStrike" baseline="-25000">
                <a:solidFill>
                  <a:srgbClr val="ff66ff"/>
                </a:solidFill>
                <a:latin typeface="Courier New"/>
              </a:rPr>
              <a:t>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3505320"/>
            <a:ext cx="554040" cy="649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4572000"/>
            <a:ext cx="2803680" cy="914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best tree C-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114800" y="3962160"/>
            <a:ext cx="10666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98600" y="2743200"/>
            <a:ext cx="89028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obs_cost2" descr=""/>
          <p:cNvPicPr/>
          <p:nvPr/>
        </p:nvPicPr>
        <p:blipFill>
          <a:blip r:embed="rId1"/>
          <a:stretch/>
        </p:blipFill>
        <p:spPr>
          <a:xfrm>
            <a:off x="4419720" y="1638360"/>
            <a:ext cx="3971880" cy="3619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Cost matrix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the costs of the best two element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j,j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Costs of </a:t>
            </a:r>
            <a:br>
              <a:rPr sz="2000"/>
            </a:br>
            <a:r>
              <a:rPr b="1" lang="en-US" sz="2000" spc="-1" strike="noStrike">
                <a:solidFill>
                  <a:srgbClr val="ff66ff"/>
                </a:solidFill>
                <a:latin typeface="Arial"/>
              </a:rPr>
              <a:t>one-element ‘trees’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j-1,j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sts of best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-element tre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-1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34560" y="1447920"/>
            <a:ext cx="89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Courier New"/>
              </a:rPr>
              <a:t>C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Courier New"/>
              </a:rPr>
              <a:t>j-1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1981080"/>
            <a:ext cx="304560" cy="22860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Root matrix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the roots of the best two element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s of 1-element tre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diag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Courier New"/>
              </a:rPr>
              <a:t>best[j-1,j]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oot of best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2-element tre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-1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j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409" name="obs_root" descr=""/>
          <p:cNvPicPr/>
          <p:nvPr/>
        </p:nvPicPr>
        <p:blipFill>
          <a:blip r:embed="rId1"/>
          <a:stretch/>
        </p:blipFill>
        <p:spPr>
          <a:xfrm>
            <a:off x="4638600" y="1447920"/>
            <a:ext cx="397188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3-element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examine the 3-element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each in turn as the ro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 with (C,D) to the righ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 with B and D as childre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 with (B,C) to the lef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best, store cost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B,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root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st[B,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85800" y="1422360"/>
            <a:ext cx="7833600" cy="1168560"/>
            <a:chOff x="685800" y="1422360"/>
            <a:chExt cx="7833600" cy="1168560"/>
          </a:xfrm>
        </p:grpSpPr>
        <p:grpSp>
          <p:nvGrpSpPr>
            <p:cNvPr id="413" name=""/>
            <p:cNvGrpSpPr/>
            <p:nvPr/>
          </p:nvGrpSpPr>
          <p:grpSpPr>
            <a:xfrm>
              <a:off x="747360" y="1465200"/>
              <a:ext cx="2193120" cy="454680"/>
              <a:chOff x="747360" y="1465200"/>
              <a:chExt cx="2193120" cy="454680"/>
            </a:xfrm>
          </p:grpSpPr>
          <p:sp>
            <p:nvSpPr>
              <p:cNvPr id="414" name=""/>
              <p:cNvSpPr/>
              <p:nvPr/>
            </p:nvSpPr>
            <p:spPr>
              <a:xfrm>
                <a:off x="7473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5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6617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1189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5761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87240" y="2089080"/>
              <a:ext cx="2315160" cy="393840"/>
              <a:chOff x="687240" y="2089080"/>
              <a:chExt cx="2315160" cy="393840"/>
            </a:xfrm>
          </p:grpSpPr>
          <p:sp>
            <p:nvSpPr>
              <p:cNvPr id="420" name=""/>
              <p:cNvSpPr/>
              <p:nvPr/>
            </p:nvSpPr>
            <p:spPr>
              <a:xfrm>
                <a:off x="6872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444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76520" y="20890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0588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160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685800" y="1447920"/>
              <a:ext cx="7797960" cy="1143000"/>
            </a:xfrm>
            <a:prstGeom prst="rect">
              <a:avLst/>
            </a:prstGeom>
            <a:noFill/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1360" y="1996920"/>
              <a:ext cx="7797600" cy="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143000" y="1422360"/>
              <a:ext cx="3200400" cy="1168560"/>
              <a:chOff x="1143000" y="1422360"/>
              <a:chExt cx="3200400" cy="11685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143000" y="1422360"/>
                <a:ext cx="1371600" cy="1168560"/>
                <a:chOff x="1143000" y="1422360"/>
                <a:chExt cx="1371600" cy="116856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143000" y="1422360"/>
                  <a:ext cx="457200" cy="1168560"/>
                  <a:chOff x="1143000" y="1422360"/>
                  <a:chExt cx="457200" cy="11685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1430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16002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2057400" y="1422360"/>
                  <a:ext cx="457200" cy="1168560"/>
                  <a:chOff x="2057400" y="1422360"/>
                  <a:chExt cx="457200" cy="116856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flipV="1">
                    <a:off x="20574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25146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5" name=""/>
              <p:cNvGrpSpPr/>
              <p:nvPr/>
            </p:nvGrpSpPr>
            <p:grpSpPr>
              <a:xfrm>
                <a:off x="2971800" y="1422360"/>
                <a:ext cx="1371600" cy="1168560"/>
                <a:chOff x="2971800" y="1422360"/>
                <a:chExt cx="1371600" cy="116856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2971800" y="1422360"/>
                  <a:ext cx="457200" cy="1168560"/>
                  <a:chOff x="2971800" y="1422360"/>
                  <a:chExt cx="457200" cy="11685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>
                    <a:off x="29718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34290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3886200" y="1422360"/>
                  <a:ext cx="457200" cy="1168560"/>
                  <a:chOff x="3886200" y="1422360"/>
                  <a:chExt cx="457200" cy="11685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V="1">
                    <a:off x="38862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V="1">
                    <a:off x="43434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2" name=""/>
            <p:cNvGrpSpPr/>
            <p:nvPr/>
          </p:nvGrpSpPr>
          <p:grpSpPr>
            <a:xfrm>
              <a:off x="4800600" y="1422360"/>
              <a:ext cx="3200400" cy="1168560"/>
              <a:chOff x="4800600" y="1422360"/>
              <a:chExt cx="3200400" cy="116856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4800600" y="1422360"/>
                <a:ext cx="1371600" cy="1168560"/>
                <a:chOff x="4800600" y="1422360"/>
                <a:chExt cx="1371600" cy="1168560"/>
              </a:xfrm>
            </p:grpSpPr>
            <p:grpSp>
              <p:nvGrpSpPr>
                <p:cNvPr id="444" name=""/>
                <p:cNvGrpSpPr/>
                <p:nvPr/>
              </p:nvGrpSpPr>
              <p:grpSpPr>
                <a:xfrm>
                  <a:off x="4800600" y="1422360"/>
                  <a:ext cx="457200" cy="1168560"/>
                  <a:chOff x="4800600" y="1422360"/>
                  <a:chExt cx="457200" cy="11685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>
                    <a:off x="48006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>
                    <a:off x="52578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5715000" y="1422360"/>
                  <a:ext cx="457200" cy="1168560"/>
                  <a:chOff x="5715000" y="1422360"/>
                  <a:chExt cx="457200" cy="116856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57150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61722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6629400" y="1422360"/>
                <a:ext cx="1371600" cy="1168560"/>
                <a:chOff x="6629400" y="1422360"/>
                <a:chExt cx="1371600" cy="11685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6629400" y="1422360"/>
                  <a:ext cx="457200" cy="1168560"/>
                  <a:chOff x="6629400" y="1422360"/>
                  <a:chExt cx="457200" cy="116856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>
                    <a:off x="66294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>
                    <a:off x="70866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"/>
                <p:cNvGrpSpPr/>
                <p:nvPr/>
              </p:nvGrpSpPr>
              <p:grpSpPr>
                <a:xfrm>
                  <a:off x="7543800" y="1422360"/>
                  <a:ext cx="457200" cy="1168560"/>
                  <a:chOff x="7543800" y="1422360"/>
                  <a:chExt cx="457200" cy="11685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V="1">
                    <a:off x="75438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8001000" y="1422360"/>
                    <a:ext cx="0" cy="1168560"/>
                  </a:xfrm>
                  <a:prstGeom prst="line">
                    <a:avLst/>
                  </a:prstGeom>
                  <a:ln w="50760">
                    <a:solidFill>
                      <a:srgbClr val="fc012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7" name=""/>
            <p:cNvGrpSpPr/>
            <p:nvPr/>
          </p:nvGrpSpPr>
          <p:grpSpPr>
            <a:xfrm>
              <a:off x="3033360" y="1465200"/>
              <a:ext cx="2193120" cy="454680"/>
              <a:chOff x="3033360" y="1465200"/>
              <a:chExt cx="2193120" cy="454680"/>
            </a:xfrm>
          </p:grpSpPr>
          <p:sp>
            <p:nvSpPr>
              <p:cNvPr id="458" name=""/>
              <p:cNvSpPr/>
              <p:nvPr/>
            </p:nvSpPr>
            <p:spPr>
              <a:xfrm>
                <a:off x="30333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4905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477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4049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621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319360" y="1465200"/>
              <a:ext cx="2193120" cy="454680"/>
              <a:chOff x="5319360" y="1465200"/>
              <a:chExt cx="2193120" cy="454680"/>
            </a:xfrm>
          </p:grpSpPr>
          <p:sp>
            <p:nvSpPr>
              <p:cNvPr id="464" name=""/>
              <p:cNvSpPr/>
              <p:nvPr/>
            </p:nvSpPr>
            <p:spPr>
              <a:xfrm>
                <a:off x="53193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7765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337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909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481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7605360" y="1465200"/>
              <a:ext cx="914040" cy="454680"/>
              <a:chOff x="7605360" y="1465200"/>
              <a:chExt cx="914040" cy="454680"/>
            </a:xfrm>
          </p:grpSpPr>
          <p:sp>
            <p:nvSpPr>
              <p:cNvPr id="470" name=""/>
              <p:cNvSpPr/>
              <p:nvPr/>
            </p:nvSpPr>
            <p:spPr>
              <a:xfrm>
                <a:off x="7605360" y="1465200"/>
                <a:ext cx="36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72200" y="1465200"/>
                <a:ext cx="547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049560" y="2089080"/>
              <a:ext cx="2162520" cy="393840"/>
              <a:chOff x="3049560" y="2089080"/>
              <a:chExt cx="2162520" cy="393840"/>
            </a:xfrm>
          </p:grpSpPr>
          <p:sp>
            <p:nvSpPr>
              <p:cNvPr id="473" name=""/>
              <p:cNvSpPr/>
              <p:nvPr/>
            </p:nvSpPr>
            <p:spPr>
              <a:xfrm>
                <a:off x="3049560" y="20890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304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58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448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8360" y="20890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335560" y="2089080"/>
              <a:ext cx="2238840" cy="393840"/>
              <a:chOff x="5335560" y="2089080"/>
              <a:chExt cx="2238840" cy="393840"/>
            </a:xfrm>
          </p:grpSpPr>
          <p:sp>
            <p:nvSpPr>
              <p:cNvPr id="479" name=""/>
              <p:cNvSpPr/>
              <p:nvPr/>
            </p:nvSpPr>
            <p:spPr>
              <a:xfrm>
                <a:off x="5335560" y="20890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164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48520" y="2089080"/>
                <a:ext cx="3337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308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0880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545240" y="2089080"/>
              <a:ext cx="943560" cy="393840"/>
              <a:chOff x="7545240" y="2089080"/>
              <a:chExt cx="943560" cy="393840"/>
            </a:xfrm>
          </p:grpSpPr>
          <p:sp>
            <p:nvSpPr>
              <p:cNvPr id="485" name=""/>
              <p:cNvSpPr/>
              <p:nvPr/>
            </p:nvSpPr>
            <p:spPr>
              <a:xfrm>
                <a:off x="75452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002440" y="2089080"/>
                <a:ext cx="486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urier New"/>
                  </a:rPr>
                  <a:t>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7" name=""/>
          <p:cNvSpPr/>
          <p:nvPr/>
        </p:nvSpPr>
        <p:spPr>
          <a:xfrm>
            <a:off x="1015920" y="1320840"/>
            <a:ext cx="1625760" cy="147312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00ae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80280" y="3733920"/>
            <a:ext cx="1924200" cy="797040"/>
          </a:xfrm>
          <a:custGeom>
            <a:avLst/>
            <a:gdLst>
              <a:gd name="textAreaLeft" fmla="*/ 300600 w 1924200"/>
              <a:gd name="textAreaRight" fmla="*/ 1683720 w 1924200"/>
              <a:gd name="textAreaTop" fmla="*/ 199080 h 797040"/>
              <a:gd name="textAreaBottom" fmla="*/ 597960 h 79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istinct Birthday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(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robability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ople have distin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wo people, the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only 364 “free” 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3rd has only 363, and so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71240" y="2805120"/>
            <a:ext cx="2391480" cy="911880"/>
            <a:chOff x="2271240" y="2805120"/>
            <a:chExt cx="2391480" cy="911880"/>
          </a:xfrm>
        </p:grpSpPr>
        <p:sp>
          <p:nvSpPr>
            <p:cNvPr id="46" name=""/>
            <p:cNvSpPr/>
            <p:nvPr/>
          </p:nvSpPr>
          <p:spPr>
            <a:xfrm>
              <a:off x="2271240" y="3033720"/>
              <a:ext cx="196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 = 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024080" y="2805120"/>
              <a:ext cx="638640" cy="911880"/>
              <a:chOff x="4024080" y="2805120"/>
              <a:chExt cx="638640" cy="911880"/>
            </a:xfrm>
          </p:grpSpPr>
          <p:sp>
            <p:nvSpPr>
              <p:cNvPr id="48" name=""/>
              <p:cNvSpPr/>
              <p:nvPr/>
            </p:nvSpPr>
            <p:spPr>
              <a:xfrm>
                <a:off x="4024080" y="280512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02200" y="3276720"/>
                <a:ext cx="482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24080" y="326232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814400" y="4329000"/>
            <a:ext cx="5585760" cy="911880"/>
            <a:chOff x="1814400" y="4329000"/>
            <a:chExt cx="5585760" cy="911880"/>
          </a:xfrm>
        </p:grpSpPr>
        <p:sp>
          <p:nvSpPr>
            <p:cNvPr id="52" name=""/>
            <p:cNvSpPr/>
            <p:nvPr/>
          </p:nvSpPr>
          <p:spPr>
            <a:xfrm>
              <a:off x="1814400" y="4557600"/>
              <a:ext cx="1981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(n) = Q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*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566880" y="4329000"/>
              <a:ext cx="638640" cy="911880"/>
              <a:chOff x="3566880" y="4329000"/>
              <a:chExt cx="638640" cy="911880"/>
            </a:xfrm>
          </p:grpSpPr>
          <p:sp>
            <p:nvSpPr>
              <p:cNvPr id="54" name=""/>
              <p:cNvSpPr/>
              <p:nvPr/>
            </p:nvSpPr>
            <p:spPr>
              <a:xfrm>
                <a:off x="3566880" y="432900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645000" y="4800600"/>
                <a:ext cx="4824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566880" y="478620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633920" y="4329000"/>
              <a:ext cx="638640" cy="911880"/>
              <a:chOff x="4633920" y="4329000"/>
              <a:chExt cx="638640" cy="911880"/>
            </a:xfrm>
          </p:grpSpPr>
          <p:sp>
            <p:nvSpPr>
              <p:cNvPr id="58" name=""/>
              <p:cNvSpPr/>
              <p:nvPr/>
            </p:nvSpPr>
            <p:spPr>
              <a:xfrm>
                <a:off x="4633920" y="432900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711680" y="4800600"/>
                <a:ext cx="482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633920" y="478620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6163920" y="4329000"/>
              <a:ext cx="1236240" cy="911880"/>
              <a:chOff x="6163920" y="4329000"/>
              <a:chExt cx="1236240" cy="911880"/>
            </a:xfrm>
          </p:grpSpPr>
          <p:sp>
            <p:nvSpPr>
              <p:cNvPr id="62" name=""/>
              <p:cNvSpPr/>
              <p:nvPr/>
            </p:nvSpPr>
            <p:spPr>
              <a:xfrm>
                <a:off x="6163920" y="4329000"/>
                <a:ext cx="1236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-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540480" y="4800600"/>
                <a:ext cx="4827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462720" y="4786200"/>
                <a:ext cx="638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4253040" y="45576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3400" y="455760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 …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3-element tre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element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best, store cost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B,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root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st[B,D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838080" y="1954080"/>
            <a:ext cx="3107520" cy="2084400"/>
            <a:chOff x="838080" y="1954080"/>
            <a:chExt cx="3107520" cy="2084400"/>
          </a:xfrm>
        </p:grpSpPr>
        <p:sp>
          <p:nvSpPr>
            <p:cNvPr id="492" name=""/>
            <p:cNvSpPr/>
            <p:nvPr/>
          </p:nvSpPr>
          <p:spPr>
            <a:xfrm>
              <a:off x="838080" y="2565360"/>
              <a:ext cx="1625400" cy="1473120"/>
            </a:xfrm>
            <a:prstGeom prst="roundRect">
              <a:avLst>
                <a:gd name="adj" fmla="val 1249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00ae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1240" y="2413080"/>
              <a:ext cx="25416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1396800" y="3098880"/>
              <a:ext cx="35568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35840" y="2652840"/>
              <a:ext cx="364320" cy="4546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2320" y="3338640"/>
              <a:ext cx="364320" cy="4546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26360" y="1967040"/>
              <a:ext cx="364320" cy="4546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81240" y="1954080"/>
              <a:ext cx="1764360" cy="17409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507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 alrea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now this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est for C,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d st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s 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334120" y="2771640"/>
            <a:ext cx="253800" cy="25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4647960" y="2771640"/>
            <a:ext cx="355320" cy="2541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54080" y="300024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77720" y="231444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91920" y="300024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68160" y="1295280"/>
            <a:ext cx="18486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=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0880" y="1295280"/>
            <a:ext cx="184680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=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37480" y="1295280"/>
            <a:ext cx="1854360" cy="50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86600" y="2668680"/>
            <a:ext cx="1143000" cy="1446120"/>
          </a:xfrm>
          <a:custGeom>
            <a:avLst/>
            <a:gdLst>
              <a:gd name="textAreaLeft" fmla="*/ 41760 w 1143000"/>
              <a:gd name="textAreaRight" fmla="*/ 1101240 w 1143000"/>
              <a:gd name="textAreaTop" fmla="*/ 41760 h 1446120"/>
              <a:gd name="textAreaBottom" fmla="*/ 1404360 h 1446120"/>
            </a:gdLst>
            <a:ahLst/>
            <a:rect l="textAreaLeft" t="textAreaTop" r="textAreaRight" b="textAreaBottom"/>
            <a:pathLst>
              <a:path w="21600" h="27326">
                <a:moveTo>
                  <a:pt x="2699" y="0"/>
                </a:moveTo>
                <a:arcTo wR="2699" hR="2699" stAng="16200000" swAng="-5400000"/>
                <a:lnTo>
                  <a:pt x="0" y="24627"/>
                </a:lnTo>
                <a:arcTo wR="2699" hR="2699" stAng="10800000" swAng="-5400000"/>
                <a:lnTo>
                  <a:pt x="18901" y="2732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ae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7695720" y="2362320"/>
            <a:ext cx="48276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20120" y="3200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40040" y="27432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44960" y="342900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02160" y="1981080"/>
            <a:ext cx="364320" cy="454680"/>
          </a:xfrm>
          <a:prstGeom prst="rect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29320" y="4038480"/>
            <a:ext cx="1274760" cy="424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,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Optimal Binary Search Tree - </a:t>
            </a: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3-element trees</a:t>
            </a:r>
            <a:endParaRPr b="1" i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ly, update 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j-2,j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st[j-2,j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obs_cost3" descr=""/>
          <p:cNvPicPr/>
          <p:nvPr/>
        </p:nvPicPr>
        <p:blipFill>
          <a:blip r:embed="rId1"/>
          <a:stretch/>
        </p:blipFill>
        <p:spPr>
          <a:xfrm>
            <a:off x="590400" y="1523880"/>
            <a:ext cx="3981600" cy="3619800"/>
          </a:xfrm>
          <a:prstGeom prst="rect">
            <a:avLst/>
          </a:prstGeom>
          <a:ln w="0">
            <a:noFill/>
          </a:ln>
        </p:spPr>
      </p:pic>
      <p:pic>
        <p:nvPicPr>
          <p:cNvPr id="517" name="obs_root3" descr=""/>
          <p:cNvPicPr/>
          <p:nvPr/>
        </p:nvPicPr>
        <p:blipFill>
          <a:blip r:embed="rId2"/>
          <a:stretch/>
        </p:blipFill>
        <p:spPr>
          <a:xfrm>
            <a:off x="4714920" y="1523880"/>
            <a:ext cx="3971880" cy="36198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983600" y="5105520"/>
            <a:ext cx="1026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74360" y="5105520"/>
            <a:ext cx="1043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990720" y="1752480"/>
            <a:ext cx="7391160" cy="762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2514600"/>
            <a:ext cx="739116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3276720"/>
            <a:ext cx="7391160" cy="761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4038480"/>
            <a:ext cx="739116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 - 4-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411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the 4-element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-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A as 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B as 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C as 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D as 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0560" y="1752480"/>
            <a:ext cx="24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0 for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B-D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0560" y="2514600"/>
            <a:ext cx="24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-A is in C[0,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C-D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0200" y="3276720"/>
            <a:ext cx="19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-B is in C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is in C[3,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68400" y="4038480"/>
            <a:ext cx="298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-C is in C[0,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0 in C[4,3] f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cost will b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0,n-1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obs_costf" descr=""/>
          <p:cNvPicPr/>
          <p:nvPr/>
        </p:nvPicPr>
        <p:blipFill>
          <a:blip r:embed="rId1"/>
          <a:stretch/>
        </p:blipFill>
        <p:spPr>
          <a:xfrm>
            <a:off x="2495520" y="1447920"/>
            <a:ext cx="3981600" cy="36194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743200" y="4419720"/>
            <a:ext cx="60948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14400" y="4038480"/>
            <a:ext cx="1560600" cy="1203480"/>
          </a:xfrm>
          <a:custGeom>
            <a:avLst/>
            <a:gdLst>
              <a:gd name="textAreaLeft" fmla="*/ 243720 w 1560600"/>
              <a:gd name="textAreaRight" fmla="*/ 1287360 w 1560600"/>
              <a:gd name="textAreaTop" fmla="*/ 189000 h 1203480"/>
              <a:gd name="textAreaBottom" fmla="*/ 1014480 h 1203480"/>
            </a:gdLst>
            <a:ahLst/>
            <a:rect l="textAreaLeft" t="textAreaTop" r="textAreaRight" b="textAreaBottom"/>
            <a:pathLst>
              <a:path w="21600" h="21600">
                <a:moveTo>
                  <a:pt x="3375" y="3396"/>
                </a:moveTo>
                <a:lnTo>
                  <a:pt x="16080" y="3396"/>
                </a:lnTo>
                <a:lnTo>
                  <a:pt x="16080" y="0"/>
                </a:lnTo>
                <a:lnTo>
                  <a:pt x="21600" y="10800"/>
                </a:lnTo>
                <a:lnTo>
                  <a:pt x="16080" y="21600"/>
                </a:lnTo>
                <a:lnTo>
                  <a:pt x="16080" y="18204"/>
                </a:lnTo>
                <a:lnTo>
                  <a:pt x="3375" y="18204"/>
                </a:lnTo>
                <a:close/>
              </a:path>
              <a:path w="21600" h="21600">
                <a:moveTo>
                  <a:pt x="0" y="3396"/>
                </a:moveTo>
                <a:lnTo>
                  <a:pt x="675" y="3396"/>
                </a:lnTo>
                <a:lnTo>
                  <a:pt x="675" y="18204"/>
                </a:lnTo>
                <a:lnTo>
                  <a:pt x="0" y="18204"/>
                </a:lnTo>
                <a:close/>
              </a:path>
              <a:path w="21600" h="21600">
                <a:moveTo>
                  <a:pt x="1350" y="3396"/>
                </a:moveTo>
                <a:lnTo>
                  <a:pt x="2700" y="3396"/>
                </a:lnTo>
                <a:lnTo>
                  <a:pt x="2700" y="18204"/>
                </a:lnTo>
                <a:lnTo>
                  <a:pt x="1350" y="18204"/>
                </a:lnTo>
                <a:close/>
              </a:path>
            </a:pathLst>
          </a:custGeom>
          <a:solidFill>
            <a:srgbClr val="ffff66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the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ot will be in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st[0,n-1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0 = best[0,n-1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eft subtree roo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est[0,r0-1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Right subtree roo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st[r0+1,n-1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obs_rootf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36194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4952880" y="4419720"/>
            <a:ext cx="60984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98280" y="4343400"/>
            <a:ext cx="2027160" cy="699840"/>
          </a:xfrm>
          <a:custGeom>
            <a:avLst/>
            <a:gdLst>
              <a:gd name="textAreaLeft" fmla="*/ 316440 w 2027160"/>
              <a:gd name="textAreaRight" fmla="*/ 1746720 w 2027160"/>
              <a:gd name="textAreaTop" fmla="*/ 150480 h 699840"/>
              <a:gd name="textAreaBottom" fmla="*/ 549360 h 699840"/>
            </a:gdLst>
            <a:ahLst/>
            <a:rect l="textAreaLeft" t="textAreaTop" r="textAreaRight" b="textAreaBottom"/>
            <a:pathLst>
              <a:path w="21600" h="21600">
                <a:moveTo>
                  <a:pt x="3375" y="4649"/>
                </a:moveTo>
                <a:lnTo>
                  <a:pt x="16350" y="4649"/>
                </a:lnTo>
                <a:lnTo>
                  <a:pt x="16350" y="0"/>
                </a:lnTo>
                <a:lnTo>
                  <a:pt x="21600" y="10800"/>
                </a:lnTo>
                <a:lnTo>
                  <a:pt x="16350" y="21600"/>
                </a:lnTo>
                <a:lnTo>
                  <a:pt x="16350" y="16951"/>
                </a:lnTo>
                <a:lnTo>
                  <a:pt x="3375" y="16951"/>
                </a:lnTo>
                <a:close/>
              </a:path>
              <a:path w="21600" h="21600">
                <a:moveTo>
                  <a:pt x="0" y="4649"/>
                </a:moveTo>
                <a:lnTo>
                  <a:pt x="675" y="4649"/>
                </a:lnTo>
                <a:lnTo>
                  <a:pt x="675" y="16951"/>
                </a:lnTo>
                <a:lnTo>
                  <a:pt x="0" y="16951"/>
                </a:lnTo>
                <a:close/>
              </a:path>
              <a:path w="21600" h="21600">
                <a:moveTo>
                  <a:pt x="1350" y="4649"/>
                </a:moveTo>
                <a:lnTo>
                  <a:pt x="2700" y="4649"/>
                </a:lnTo>
                <a:lnTo>
                  <a:pt x="2700" y="16951"/>
                </a:lnTo>
                <a:lnTo>
                  <a:pt x="1350" y="16951"/>
                </a:lnTo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  = ‘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2590920"/>
            <a:ext cx="609840" cy="5331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77120" y="4419720"/>
            <a:ext cx="609480" cy="53316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 flipH="1">
            <a:off x="2666880" y="3733920"/>
            <a:ext cx="1526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7600" y="3733920"/>
            <a:ext cx="1522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2819160" y="3124080"/>
            <a:ext cx="228600" cy="228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351240" y="3124080"/>
            <a:ext cx="228600" cy="228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904760" y="3733920"/>
            <a:ext cx="15228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143000" y="3048120"/>
            <a:ext cx="38088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28800" y="3048120"/>
            <a:ext cx="22860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90920" y="2362320"/>
            <a:ext cx="457200" cy="3045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the search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obs_rootf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36194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952880" y="4419720"/>
            <a:ext cx="609840" cy="5331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590920"/>
            <a:ext cx="609840" cy="5331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77120" y="4419720"/>
            <a:ext cx="609480" cy="53316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30560" y="1905120"/>
            <a:ext cx="38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69160" y="2590920"/>
            <a:ext cx="40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993040" y="2666880"/>
            <a:ext cx="40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83360" y="3238560"/>
            <a:ext cx="40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26360" y="3276720"/>
            <a:ext cx="40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21440" y="3886200"/>
            <a:ext cx="40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828800" y="2362320"/>
            <a:ext cx="380880" cy="2286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87040" y="3276720"/>
            <a:ext cx="418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35120" y="3886200"/>
            <a:ext cx="366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46280" y="3276720"/>
            <a:ext cx="4366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4800" y="3886200"/>
            <a:ext cx="349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105520" y="3123720"/>
            <a:ext cx="0" cy="12956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62720" y="487692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105520" y="2057400"/>
            <a:ext cx="380880" cy="38088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15000" y="2666880"/>
            <a:ext cx="380880" cy="38124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29400" y="3581280"/>
            <a:ext cx="304920" cy="30492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4495680"/>
            <a:ext cx="304920" cy="304920"/>
          </a:xfrm>
          <a:prstGeom prst="ellipse">
            <a:avLst/>
          </a:prstGeom>
          <a:noFill/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105520" y="2285640"/>
            <a:ext cx="0" cy="3049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86400" y="3048120"/>
            <a:ext cx="30492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724280"/>
            <a:ext cx="457200" cy="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705720" y="3886200"/>
            <a:ext cx="0" cy="53352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Analysi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ement trees requi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e for each candidate ro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m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the tree i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verag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064040" y="1905120"/>
            <a:ext cx="482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327200" y="2165400"/>
            <a:ext cx="2017800" cy="1079640"/>
            <a:chOff x="4327200" y="2165400"/>
            <a:chExt cx="2017800" cy="1079640"/>
          </a:xfrm>
        </p:grpSpPr>
        <p:sp>
          <p:nvSpPr>
            <p:cNvPr id="581" name=""/>
            <p:cNvSpPr/>
            <p:nvPr/>
          </p:nvSpPr>
          <p:spPr>
            <a:xfrm>
              <a:off x="4373640" y="2454120"/>
              <a:ext cx="1971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= O(n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327200" y="2851200"/>
              <a:ext cx="646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 =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481280" y="21654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ptimal Binary Search Tre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Note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ood example of a dynamic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lves all the small proble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ilds solutions to larger problems from them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quires space to store small problem result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in no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Java version has more explicit variable names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hed to the Web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ee the animation coming soon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ther Dynamic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rix Chain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 have to compute a product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matrices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atrix multiplication is associati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an compute this in many w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sid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?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complexity for multiplying tw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tric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at is the optimal parenthesisation?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81840" y="1828800"/>
            <a:ext cx="158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..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323360" y="3276720"/>
            <a:ext cx="206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..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13920" y="3276720"/>
            <a:ext cx="2145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(...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77480" y="32767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atrix Chain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10x100    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-  100x5    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-  5x50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6040" y="1066680"/>
            <a:ext cx="1054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35640" y="2209680"/>
            <a:ext cx="125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35640" y="3276720"/>
            <a:ext cx="125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973600" y="2131920"/>
            <a:ext cx="5519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&gt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95840" y="3274920"/>
            <a:ext cx="5903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500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&gt;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7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oincident Birthday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of having two identical birth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n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Q(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5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23 entrie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is on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365 = 6.3%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7760" y="1473120"/>
            <a:ext cx="50734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atrix Chain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timal sub-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bchains of optimal parenthesisations must be optimal parenthesis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therwise we could replace them with cheaper parenthesis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 with the optimal binary searc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his is a hallmark of dynamic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the optimal 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pute the cost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em to compute the optimal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gorithm requir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pace!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atrix Chain Multiplica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timal sub-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bchains of optimal parenthesisations must be optimal parenthesis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therwise we could replace them with cheaper parenthesis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 with the optimal binary searc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This is a hallmark of dynamic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the optimal ch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mpute the costs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 them to compute the optimal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lgorithm requir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pace!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92480" y="2666880"/>
            <a:ext cx="6906600" cy="1894320"/>
          </a:xfrm>
          <a:prstGeom prst="downArrowCallout">
            <a:avLst>
              <a:gd name="adj1" fmla="val 17691"/>
              <a:gd name="adj2" fmla="val 19698"/>
              <a:gd name="adj3" fmla="val 14440"/>
              <a:gd name="adj4" fmla="val 43583"/>
            </a:avLst>
          </a:prstGeom>
          <a:solidFill>
            <a:srgbClr val="ffff66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e can measure spac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.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tation als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ther Dynamic Proble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ngest common sub-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wo sequences of symbol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=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...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 =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...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hat’s the longest sequenc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... 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und in both X and Y?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Other Dynamic Proble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timal polygon triang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polygon can be divided intro triangles in a number of way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here is a weight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sociated with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ach triangle,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ind the triangulation 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f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inimum (maximum) weigh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ny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eight, </a:t>
            </a: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eg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length of perimeter, will do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his problem maps to matrix chain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08" name="opt_tri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436248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apping Problems to Related One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lygon triangul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matrix chain multi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Key Capability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different problems with the same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one problem to ano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11" name="dyn_map" descr=""/>
          <p:cNvPicPr/>
          <p:nvPr/>
        </p:nvPicPr>
        <p:blipFill>
          <a:blip r:embed="rId1"/>
          <a:stretch/>
        </p:blipFill>
        <p:spPr>
          <a:xfrm>
            <a:off x="2100240" y="1600200"/>
            <a:ext cx="494352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Hash Table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oad factor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isions are very probab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load factor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kept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analyses of the average chain leng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r number of comparisons/search) are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parate chai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linked lists attached to each slo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best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uses more spac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529800" y="1585800"/>
            <a:ext cx="1145520" cy="835920"/>
            <a:chOff x="3529800" y="1585800"/>
            <a:chExt cx="1145520" cy="835920"/>
          </a:xfrm>
        </p:grpSpPr>
        <p:sp>
          <p:nvSpPr>
            <p:cNvPr id="73" name=""/>
            <p:cNvSpPr/>
            <p:nvPr/>
          </p:nvSpPr>
          <p:spPr>
            <a:xfrm>
              <a:off x="3529800" y="1738440"/>
              <a:ext cx="92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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257720" y="1585800"/>
              <a:ext cx="417600" cy="835920"/>
              <a:chOff x="4257720" y="1585800"/>
              <a:chExt cx="417600" cy="83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290840" y="15858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57720" y="1967040"/>
                <a:ext cx="417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38720" y="1981080"/>
                <a:ext cx="253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5622840" y="1509840"/>
            <a:ext cx="281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number of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22840" y="1890720"/>
            <a:ext cx="276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number of s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asses of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s of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olynomial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t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tractabl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k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(n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ivide and Conquer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ck Sort;   Binary Search;  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ynamic Algorithm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divide phase doesn’t work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divide original problem into sufficiently small sub-probl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Dynamic Algorithm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Fibonacci number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lculate Fibonacci number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mple, elegant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.... Let’s analyze it’s performanc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96600" y="1830240"/>
            <a:ext cx="5850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ibonacci Number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ime complexity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ime to calculate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is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br>
              <a:rPr sz="2000"/>
            </a:b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w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’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5960" y="839880"/>
            <a:ext cx="4905720" cy="161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Fibonacci Numbers &amp; Fibonacci Time!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6208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’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bu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therefo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nd this is definitely not an efficient algorithm!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40280" y="839880"/>
            <a:ext cx="4905720" cy="161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fib( int n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n &lt; 2 ) return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ib(n-1) + fib(n-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17360" y="2516040"/>
            <a:ext cx="4863600" cy="1045080"/>
            <a:chOff x="1917360" y="2516040"/>
            <a:chExt cx="4863600" cy="1045080"/>
          </a:xfrm>
        </p:grpSpPr>
        <p:grpSp>
          <p:nvGrpSpPr>
            <p:cNvPr id="92" name=""/>
            <p:cNvGrpSpPr/>
            <p:nvPr/>
          </p:nvGrpSpPr>
          <p:grpSpPr>
            <a:xfrm>
              <a:off x="1917360" y="2716200"/>
              <a:ext cx="826200" cy="718200"/>
              <a:chOff x="1917360" y="2716200"/>
              <a:chExt cx="826200" cy="718200"/>
            </a:xfrm>
          </p:grpSpPr>
          <p:sp>
            <p:nvSpPr>
              <p:cNvPr id="93" name=""/>
              <p:cNvSpPr/>
              <p:nvPr/>
            </p:nvSpPr>
            <p:spPr>
              <a:xfrm>
                <a:off x="2027160" y="2716200"/>
                <a:ext cx="6066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17360" y="2979720"/>
                <a:ext cx="826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788920" y="2522520"/>
              <a:ext cx="572040" cy="1038600"/>
              <a:chOff x="2788920" y="2522520"/>
              <a:chExt cx="572040" cy="1038600"/>
            </a:xfrm>
          </p:grpSpPr>
          <p:sp>
            <p:nvSpPr>
              <p:cNvPr id="96" name=""/>
              <p:cNvSpPr/>
              <p:nvPr/>
            </p:nvSpPr>
            <p:spPr>
              <a:xfrm>
                <a:off x="2788920" y="2522520"/>
                <a:ext cx="5720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+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882520" y="3056040"/>
                <a:ext cx="38268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22400" y="3054240"/>
                <a:ext cx="506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982680" y="2516040"/>
              <a:ext cx="975240" cy="994680"/>
              <a:chOff x="3982680" y="2516040"/>
              <a:chExt cx="975240" cy="994680"/>
            </a:xfrm>
          </p:grpSpPr>
          <p:sp>
            <p:nvSpPr>
              <p:cNvPr id="100" name=""/>
              <p:cNvSpPr/>
              <p:nvPr/>
            </p:nvSpPr>
            <p:spPr>
              <a:xfrm>
                <a:off x="3982680" y="2516040"/>
                <a:ext cx="975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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03800" y="305604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044960" y="3054240"/>
                <a:ext cx="852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5206680" y="2827440"/>
              <a:ext cx="1574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1.618 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13960" y="2827440"/>
              <a:ext cx="355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079360" y="4040280"/>
            <a:ext cx="572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33560" y="4040280"/>
            <a:ext cx="1868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.618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03920" y="661680"/>
            <a:ext cx="3071520" cy="1878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928760" y="661680"/>
            <a:ext cx="3173400" cy="18781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9:32:01Z</dcterms:created>
  <dc:creator>jm</dc:creator>
  <dc:description/>
  <dc:language>en-US</dc:language>
  <cp:lastModifiedBy>jm</cp:lastModifiedBy>
  <cp:lastPrinted>1998-09-06T13:25:14Z</cp:lastPrinted>
  <dcterms:modified xsi:type="dcterms:W3CDTF">1998-09-08T01:40:02Z</dcterms:modified>
  <cp:revision>12</cp:revision>
  <dc:subject/>
  <dc:title>Data Structures and Algorithms</dc:title>
</cp:coreProperties>
</file>