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00896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0772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39720" y="11430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3640" y="11430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0089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39720" y="40089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3640" y="40089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0772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700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ata Structures and Algorithm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ying Polynomi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t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st Fourier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SD210(i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Polynomial Multiplication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marL="174240" indent="-174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1742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ugment polynomials - add</a:t>
            </a:r>
            <a:r>
              <a:rPr b="1" lang="en-US" sz="2000" spc="-1" strike="noStrike" baseline="30000">
                <a:solidFill>
                  <a:srgbClr val="063de8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oefficient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64760" indent="-1742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Evaluat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720360" indent="-139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int-value repn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(x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applying FF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360" indent="-139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s at eac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oot of 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1742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Point-wise multiply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64760" indent="-1742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nterpolat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720360" indent="-139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e coefficient representation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application of FF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174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64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174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22120" y="114300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21760" y="1981080"/>
            <a:ext cx="13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22120" y="312408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21760" y="3886200"/>
            <a:ext cx="13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21760" y="4572000"/>
            <a:ext cx="13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91520" y="4495680"/>
            <a:ext cx="1371600" cy="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Polynomial Multiplication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4000"/>
          </a:bodyPr>
          <a:p>
            <a:pPr marL="154080" indent="-154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conversion to the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oint-value 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me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1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11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154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Multipl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1480" indent="-1540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B requires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point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11480" indent="-1540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Extend A, B with additiona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point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11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11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11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154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01440" y="3535200"/>
            <a:ext cx="7464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= 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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9840" y="5486400"/>
            <a:ext cx="58122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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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15440" y="2133720"/>
            <a:ext cx="56476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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Polynomial multiplication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Polynomial Multiplication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 two polynomi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generate a product i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Each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coefficients of the product is a sum o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coefficient product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we do any bette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738880" y="1066680"/>
            <a:ext cx="1826280" cy="992880"/>
            <a:chOff x="2738880" y="1066680"/>
            <a:chExt cx="1826280" cy="992880"/>
          </a:xfrm>
        </p:grpSpPr>
        <p:sp>
          <p:nvSpPr>
            <p:cNvPr id="43" name=""/>
            <p:cNvSpPr/>
            <p:nvPr/>
          </p:nvSpPr>
          <p:spPr>
            <a:xfrm>
              <a:off x="2738880" y="1271520"/>
              <a:ext cx="182628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 =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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277440" y="1660680"/>
              <a:ext cx="52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354120" y="10666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2738880" y="2133720"/>
            <a:ext cx="1885680" cy="992520"/>
            <a:chOff x="2738880" y="2133720"/>
            <a:chExt cx="1885680" cy="992520"/>
          </a:xfrm>
        </p:grpSpPr>
        <p:sp>
          <p:nvSpPr>
            <p:cNvPr id="47" name=""/>
            <p:cNvSpPr/>
            <p:nvPr/>
          </p:nvSpPr>
          <p:spPr>
            <a:xfrm>
              <a:off x="2738880" y="2338200"/>
              <a:ext cx="188568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g =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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7440" y="2727360"/>
              <a:ext cx="52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54120" y="2133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Polynomial Multiplication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0000"/>
          </a:bodyPr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the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oefficient 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ame polynomial can be represented in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oint-value 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136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where all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063de8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re distinc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57200" indent="-17136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63de8"/>
                </a:solidFill>
                <a:latin typeface="Arial"/>
              </a:rPr>
              <a:t>and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119760" y="1219320"/>
            <a:ext cx="2242440" cy="992520"/>
            <a:chOff x="3119760" y="1219320"/>
            <a:chExt cx="2242440" cy="992520"/>
          </a:xfrm>
        </p:grpSpPr>
        <p:sp>
          <p:nvSpPr>
            <p:cNvPr id="53" name=""/>
            <p:cNvSpPr/>
            <p:nvPr/>
          </p:nvSpPr>
          <p:spPr>
            <a:xfrm>
              <a:off x="3119760" y="1424160"/>
              <a:ext cx="224244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(x) =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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123440" y="1812960"/>
              <a:ext cx="52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71680" y="1219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283400" y="3352680"/>
            <a:ext cx="46612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,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,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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,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03840" y="4572000"/>
            <a:ext cx="1372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(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Polynomial Multiplication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6000"/>
          </a:bodyPr>
          <a:p>
            <a:pPr marL="131400" indent="-13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the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oefficient 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1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1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1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1400" indent="-13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ame polynomial can be represented in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oint-value 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1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1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0280" indent="-1314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where all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063de8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re distinc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350280" indent="-1314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63de8"/>
                </a:solidFill>
                <a:latin typeface="Arial"/>
              </a:rPr>
              <a:t>and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350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131400" indent="-13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queness Theor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0280" indent="-13140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For an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points, there is a unique polynomial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119760" y="1219320"/>
            <a:ext cx="2242440" cy="992520"/>
            <a:chOff x="3119760" y="1219320"/>
            <a:chExt cx="2242440" cy="992520"/>
          </a:xfrm>
        </p:grpSpPr>
        <p:sp>
          <p:nvSpPr>
            <p:cNvPr id="61" name=""/>
            <p:cNvSpPr/>
            <p:nvPr/>
          </p:nvSpPr>
          <p:spPr>
            <a:xfrm>
              <a:off x="3119760" y="1424160"/>
              <a:ext cx="224244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(x) =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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23440" y="1812960"/>
              <a:ext cx="52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1219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283400" y="3352680"/>
            <a:ext cx="46612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,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,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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,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03840" y="4572000"/>
            <a:ext cx="1372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(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0120" y="3127320"/>
            <a:ext cx="2822760" cy="1191240"/>
          </a:xfrm>
          <a:prstGeom prst="leftArrowCallout">
            <a:avLst>
              <a:gd name="adj1" fmla="val 14437"/>
              <a:gd name="adj2" fmla="val 19116"/>
              <a:gd name="adj3" fmla="val 9116"/>
              <a:gd name="adj4" fmla="val 90995"/>
            </a:avLst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man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ation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30360" y="4572000"/>
            <a:ext cx="2545920" cy="97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distinct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ll d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029200" y="4495320"/>
            <a:ext cx="990720" cy="22860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Polynomial Multiplication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marL="174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olynomial can be represented in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oint-value 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1742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where all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063de8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re distinc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64760" indent="-1742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63de8"/>
                </a:solidFill>
                <a:latin typeface="Arial"/>
              </a:rPr>
              <a:t>and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64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174240" indent="-174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queness Theor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4760" indent="-1742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For an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points, there is a unique polynomial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83400" y="2054160"/>
            <a:ext cx="46612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,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,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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,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03840" y="3273480"/>
            <a:ext cx="1372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(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Polynomial Multiplication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5000"/>
          </a:bodyPr>
          <a:p>
            <a:pPr marL="156960" indent="-15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 in the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oint-value 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6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6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1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156960" indent="-15696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dd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1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156960" indent="-15696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Multipl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1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19040" indent="-156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)</a:t>
            </a:r>
            <a:r>
              <a:rPr b="1" i="1" lang="en-US" sz="2000" spc="-1" strike="noStrike">
                <a:solidFill>
                  <a:srgbClr val="063de8"/>
                </a:solidFill>
                <a:latin typeface="Arial"/>
              </a:rPr>
              <a:t> time multiplication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1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15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82360" y="4267080"/>
            <a:ext cx="7464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= 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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9840" y="1295280"/>
            <a:ext cx="58122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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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15440" y="1905120"/>
            <a:ext cx="56476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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5680" y="3124080"/>
            <a:ext cx="8452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= A + 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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Polynomial Multiplication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5000"/>
          </a:bodyPr>
          <a:p>
            <a:pPr marL="156960" indent="-15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 in the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oint-value 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6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6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1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156960" indent="-15696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dd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1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156960" indent="-15696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Multipl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1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19040" indent="-156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)</a:t>
            </a:r>
            <a:r>
              <a:rPr b="1" i="1" lang="en-US" sz="2000" spc="-1" strike="noStrike">
                <a:solidFill>
                  <a:srgbClr val="063de8"/>
                </a:solidFill>
                <a:latin typeface="Arial"/>
              </a:rPr>
              <a:t> time multiplication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1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15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82360" y="4267080"/>
            <a:ext cx="7464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= 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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9840" y="1295280"/>
            <a:ext cx="58122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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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15440" y="2133720"/>
            <a:ext cx="56476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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5680" y="3124080"/>
            <a:ext cx="8452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= A + 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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90920" y="1828800"/>
            <a:ext cx="0" cy="53352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1828800"/>
            <a:ext cx="0" cy="53352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1828800"/>
            <a:ext cx="0" cy="53352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20640" y="1752480"/>
            <a:ext cx="2770200" cy="970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b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Polynomial Multiplication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9000"/>
          </a:bodyPr>
          <a:p>
            <a:pPr marL="168480" indent="-168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 in the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oint-value 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9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49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168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480" indent="-168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Multipl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640" indent="-168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B requires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point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49640" indent="-16848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Extend A, B with additiona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point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49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49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449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168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1440" y="3535200"/>
            <a:ext cx="7464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 = 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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9840" y="1295280"/>
            <a:ext cx="58122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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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15440" y="2133720"/>
            <a:ext cx="56476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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’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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Polynomial Multiplication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conversion to the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oint-value 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me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why are we bothering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9T14:00:16Z</dcterms:created>
  <dc:creator>jm</dc:creator>
  <dc:description/>
  <dc:language>en-US</dc:language>
  <cp:lastModifiedBy>jm</cp:lastModifiedBy>
  <cp:lastPrinted>1998-09-13T15:52:06Z</cp:lastPrinted>
  <dcterms:modified xsi:type="dcterms:W3CDTF">1998-10-06T03:50:44Z</dcterms:modified>
  <cp:revision>24</cp:revision>
  <dc:subject/>
  <dc:title>PLSD210(ii)</dc:title>
</cp:coreProperties>
</file>