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0000" y="6486480"/>
            <a:ext cx="885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LSD2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ata Structures and Algorithm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Games</a:t>
            </a:r>
            <a:endParaRPr b="1" lang="en-US" sz="2800" spc="-1" strike="noStrike">
              <a:solidFill>
                <a:srgbClr val="00279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PLSD210</a:t>
            </a:r>
            <a:endParaRPr b="1" lang="en-US" sz="28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inimax algorithm -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ic-Tac-To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Board: 3 x 3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irst move: 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549,946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recursive call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imple minimax algorithm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many unnecessary chec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uned to 18,297 with no los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lpha-beta pru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inimax algorithm -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ic-Tac-To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Move C</a:t>
            </a:r>
            <a:r>
              <a:rPr b="1" lang="en-US" sz="2400" spc="-1" strike="noStrike" baseline="-25000">
                <a:solidFill>
                  <a:srgbClr val="00279f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279f"/>
                </a:solidFill>
                <a:latin typeface="Monotype Sorts"/>
                <a:ea typeface="Monotype Sorts"/>
              </a:rPr>
              <a:t>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draw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Evaluate C</a:t>
            </a:r>
            <a:r>
              <a:rPr b="1" lang="en-US" sz="2400" spc="-1" strike="noStrike" baseline="-25000">
                <a:solidFill>
                  <a:srgbClr val="00279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play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2A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Monotype Sorts"/>
                <a:ea typeface="Monotype Sorts"/>
              </a:rPr>
              <a:t>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 draw</a:t>
            </a: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human can force draw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r do bette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computer, this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 bet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n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evaluation of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C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pointl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c0128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efut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ut-off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ain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best move so fa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minimax2" descr=""/>
          <p:cNvPicPr/>
          <p:nvPr/>
        </p:nvPicPr>
        <p:blipFill>
          <a:blip r:embed="rId1"/>
          <a:stretch/>
        </p:blipFill>
        <p:spPr>
          <a:xfrm>
            <a:off x="4572000" y="1219320"/>
            <a:ext cx="4105440" cy="17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inimax algorithm -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ic-Tac-To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When a refutation is found, </a:t>
            </a:r>
            <a:br>
              <a:rPr sz="2000"/>
            </a:b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this is just as good as the best move that the player could make at that point, so we proceed no further</a:t>
            </a: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Add two parameters to ChooseMove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value that the human has to ref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value that the computer has to ref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an playing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Any move &lt; </a:t>
            </a:r>
            <a:r>
              <a:rPr b="1" lang="en-US" sz="2000" spc="-1" strike="noStrike">
                <a:solidFill>
                  <a:srgbClr val="00279f"/>
                </a:solidFill>
                <a:latin typeface="Symbol"/>
                <a:ea typeface="Symbol"/>
              </a:rPr>
              <a:t></a:t>
            </a: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er playing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Any move &gt; </a:t>
            </a:r>
            <a:r>
              <a:rPr b="1" lang="en-US" sz="2000" spc="-1" strike="noStrike">
                <a:solidFill>
                  <a:srgbClr val="00279f"/>
                </a:solidFill>
                <a:latin typeface="Symbol"/>
                <a:ea typeface="Symbol"/>
              </a:rPr>
              <a:t></a:t>
            </a: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with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human_win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computer_w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413400" y="1003320"/>
            <a:ext cx="1650960" cy="431640"/>
          </a:xfrm>
          <a:prstGeom prst="rect">
            <a:avLst/>
          </a:prstGeom>
          <a:solidFill>
            <a:srgbClr val="fafd00"/>
          </a:solidFill>
          <a:ln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1040" y="1612800"/>
            <a:ext cx="3022560" cy="279360"/>
          </a:xfrm>
          <a:prstGeom prst="rect">
            <a:avLst/>
          </a:prstGeom>
          <a:solidFill>
            <a:srgbClr val="fafd00"/>
          </a:solidFill>
          <a:ln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94040" y="4432320"/>
            <a:ext cx="2641320" cy="507960"/>
          </a:xfrm>
          <a:prstGeom prst="rect">
            <a:avLst/>
          </a:prstGeom>
          <a:solidFill>
            <a:srgbClr val="fafd00"/>
          </a:solidFill>
          <a:ln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94040" y="5194440"/>
            <a:ext cx="2793960" cy="355320"/>
          </a:xfrm>
          <a:prstGeom prst="rect">
            <a:avLst/>
          </a:prstGeom>
          <a:solidFill>
            <a:srgbClr val="fafd00"/>
          </a:solidFill>
          <a:ln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inimax algorithm -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ic-Tac-To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4400" y="1044720"/>
            <a:ext cx="7734240" cy="53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 ChooseMove( int computer, int *best_row, int *best_col, int alpha, int beta 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( ( val = PosValue() ) != unknown ) 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 = computer? alpha:beta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( row=0;row&lt;3;row++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for( col=0;col&lt;3;col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 Empty( row, col ) 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Place( row, col, s 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rep = ChooseMove( !computer, &amp;br, &amp;bc 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Place( row, col, empty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( (computer) &amp;&amp; (rep&gt;val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(!computer) &amp;&amp; (rep&lt;val)) 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val = r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( computer ) alpha = val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else                  beta = val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*best_row = row; *best_col = col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if ( alpha &gt;= beta ) return val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}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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arch -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dditional heuristic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Move ordering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simple heuristics to sort mo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t moves fir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They’re more likely to cause a cut-off!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Has a dramatic effect in ches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move look-a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279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Naive, material based</a:t>
            </a: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matic increase in number of cut-offs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6280" y="1042920"/>
            <a:ext cx="7708680" cy="53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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arch -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dditional heuristic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position table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ember positions that have already be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ir scores are known &amp; can be return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mediate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 numbers of positions need to be sto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tore “early” positions only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2" marL="902880" indent="-18036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Detecting a “deep” one won’t help so much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o store the position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Need fast, efficient look-up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2" marL="902880" indent="-18036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Consider 3x3 tic-tac-toe board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2" marL="902880" indent="-18036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Then consider chess!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6280" y="1042920"/>
            <a:ext cx="7708680" cy="53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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arch -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dditional heuristic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position table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o store the position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Need fast, efficient look-up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Consider 3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3 tic-tac-toe board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Then consider chess!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6280" y="1042920"/>
            <a:ext cx="7708680" cy="53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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arch -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dditional heuristic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position table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a hash table for fast look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Easy to generate key from arbitrary bit-string</a:t>
            </a: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Representative data can be easily generated</a:t>
            </a: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Fast</a:t>
            </a: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Various collision handling strategies</a:t>
            </a: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042920"/>
            <a:ext cx="7708680" cy="53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ecture 22 -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Key poin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Hard Problem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P - O(nk) algorithm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NP - non-deterministic polynomi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Monotype Sorts" charset="2"/>
              <a:buChar char="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Guessing step</a:t>
            </a: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Monotype Sorts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Verify solution in polynomial time</a:t>
            </a: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s are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believ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lie in N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Because no polynomial algorithm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is known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ecture 22 -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Key poin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lass P or NP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P :  Euler’s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NP : Hamilton’s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lass NP problem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te numb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ment for m=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lean satisfi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p colouring for m=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ecture 22 -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Key poin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Reduction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p colouring reduces to boolean satisfi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NP-complete problem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problems in NP are reducible to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 polynomial time algorithm for one is foun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a polynomial time algorithm for all is fou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velling Salesman Problem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sation - but reducible to Hamiltonian P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ecture 22 -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Key poin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olving Hard Problem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heuristics -&gt; approximate solu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SP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with MST, reduce with short-cu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olution is no more than 1.5 x optimal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olve small problems by brute force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join with greedy algorithm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earch trees can be huge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ss: ~40 possible choices for each mo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+-move look-ahead needed to w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4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positions to explore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Modern computers just “touching” this capability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ntium @ 150MHz   ~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valuations/seco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EE student programming .. so you can add a factor of 10 if you like 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a rather boring game ... ~1 year/move?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minimax" descr=""/>
          <p:cNvPicPr/>
          <p:nvPr/>
        </p:nvPicPr>
        <p:blipFill>
          <a:blip r:embed="rId1"/>
          <a:stretch/>
        </p:blipFill>
        <p:spPr>
          <a:xfrm>
            <a:off x="4952880" y="1170000"/>
            <a:ext cx="3976920" cy="18781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Board game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a “score” can b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ed to a pos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yer tries to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maximi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ponent tries to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minimi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me proceeds in alternat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imise and minimise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Mini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inimax algorithm -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ic-Tac-To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Board: 3 x 3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Players alternate placing a token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We (programmers!) want </a:t>
            </a:r>
            <a:br>
              <a:rPr sz="2400"/>
            </a:b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 computer win, so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ition is scored a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uman_win &lt; draw &lt; unknown &lt; computer_w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ull board </a:t>
            </a:r>
            <a:r>
              <a:rPr b="1" lang="en-US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a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yet full, neither winning </a:t>
            </a:r>
            <a:r>
              <a:rPr b="1" lang="en-US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pic>
        <p:nvPicPr>
          <p:cNvPr id="56" name="tictactoe" descr=""/>
          <p:cNvPicPr/>
          <p:nvPr/>
        </p:nvPicPr>
        <p:blipFill>
          <a:blip r:embed="rId1"/>
          <a:stretch/>
        </p:blipFill>
        <p:spPr>
          <a:xfrm>
            <a:off x="6172200" y="114300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inimax algorithm -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ic-Tac-To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72960" y="1120680"/>
            <a:ext cx="5965200" cy="50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 ChooseMove( int computer, int *best_row, int *best_col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( ( val = PosValue() ) != unknown ) 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 = computer? human_win:computer_win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( row=0;row&lt;3;row++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for( col=0;col&lt;3;col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 Empty( row, col ) 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Place( row, col, s 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rep = ChooseMove( !computer, &amp;br, &amp;bc 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Place( row, col, empty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( (computer) &amp;&amp; (rep&gt;val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(!computer) &amp;&amp; (rep&lt;val)) 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val = rep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*best_row = row; *best_col = col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}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5T22:29:26Z</dcterms:created>
  <dc:creator>jmm</dc:creator>
  <dc:description/>
  <dc:language>en-US</dc:language>
  <cp:lastModifiedBy>jm</cp:lastModifiedBy>
  <cp:lastPrinted>1998-10-13T03:16:42Z</cp:lastPrinted>
  <dcterms:modified xsi:type="dcterms:W3CDTF">1998-10-13T05:17:10Z</dcterms:modified>
  <cp:revision>4</cp:revision>
  <dc:subject>hard problems</dc:subject>
  <dc:title>Data Structures and Algorithms</dc:title>
</cp:coreProperties>
</file>