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sh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SD2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inked lis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isions -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inked list attached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 each primary table sl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== 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i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= 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k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= 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k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arching for 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i1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i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n table, 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m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linked list to 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i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found,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ey isn’t in tabl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3" name="hash_coll_ll" descr=""/>
          <p:cNvPicPr/>
          <p:nvPr/>
        </p:nvPicPr>
        <p:blipFill>
          <a:blip r:embed="rId1"/>
          <a:stretch/>
        </p:blipFill>
        <p:spPr>
          <a:xfrm>
            <a:off x="5103720" y="1143000"/>
            <a:ext cx="3659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hash_oflow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4267080" cy="3709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verflow area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verflow area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ed list construc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pecial area of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verflow ar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= 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stored firs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dding 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j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first slot in overflow ar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s pointer points to this sl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arching - same as linked lis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49600" y="4114800"/>
            <a:ext cx="4215960" cy="763920"/>
          </a:xfrm>
          <a:prstGeom prst="leftArrowCallout">
            <a:avLst>
              <a:gd name="adj1" fmla="val 25002"/>
              <a:gd name="adj2" fmla="val 25000"/>
              <a:gd name="adj3" fmla="val 91981"/>
              <a:gd name="adj4" fmla="val 6667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’(x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hash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ash_rehash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505320" cy="3138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05320" y="4267080"/>
            <a:ext cx="76176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Re-hashing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a second hash func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vari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term: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-has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= 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stored firs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dding 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j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until we find an empty sl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lcul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’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arching - U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’(</a:t>
            </a: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Re-hash function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re-hash func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vari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inear probing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’(x)   is    +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 to the next slo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il you find one emp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n lead to bad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lustering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-hash keys fill in gaps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etween other keys and exacerbate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collision proble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hash_lp" descr=""/>
          <p:cNvPicPr/>
          <p:nvPr/>
        </p:nvPicPr>
        <p:blipFill>
          <a:blip r:embed="rId1"/>
          <a:stretch/>
        </p:blipFill>
        <p:spPr>
          <a:xfrm>
            <a:off x="5210280" y="762120"/>
            <a:ext cx="3530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Re-hash function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re-hash func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vari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Quadratic probing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’(x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s primary clust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econdary cluste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 keys which collide 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(x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follow the same sequen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rst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= h(j)  = h(k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a + c,  a + 4c,  a + 9c, ..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condary clustering generally less of a proble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ollision Resolution Summary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Unlimited number of elemen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Unlimited number of collis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verhead of multiple linked lis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-has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ast re-hashing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ast access through use of main table spa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aximum number of elements must be know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ultiple collisions become probabl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flow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ast access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Collisions don't use primary table spa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wo parameters which govern performance need to be estimat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ollision Resolution Summary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-has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ast re-hashing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ast access through use of main table spa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aximum number of elements must be know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ultiple collisions become probabl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flow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ast access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e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Collisions don't use primary table spa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wo parameters which govern performance need to be estimat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Summary so far ...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arch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a suitable funct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(ke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integer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an be foun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 for speed trade-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ull” hash tables don’t work (more later!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i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evitabl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h function reduces amount of information in 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Various resolution strategi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ed 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flow ar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hash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inear probing       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’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is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Quadratic prob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y other hash function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4" marL="195444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even sequence of functions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Choosing the Hash Function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most any function will 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t some functions are definitely better than others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criter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inimum number of collis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s chains sh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3429000"/>
            <a:ext cx="121932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Choosing the Hash Function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orm has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deal hash func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(k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probability that a key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lots in our hash tabl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iform hashing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(k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ould ensu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, in plain English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keys that map to each slot is equ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15120" y="2819520"/>
            <a:ext cx="7162200" cy="991800"/>
            <a:chOff x="915120" y="2819520"/>
            <a:chExt cx="7162200" cy="991800"/>
          </a:xfrm>
        </p:grpSpPr>
        <p:grpSp>
          <p:nvGrpSpPr>
            <p:cNvPr id="89" name=""/>
            <p:cNvGrpSpPr/>
            <p:nvPr/>
          </p:nvGrpSpPr>
          <p:grpSpPr>
            <a:xfrm>
              <a:off x="915120" y="2855880"/>
              <a:ext cx="1818000" cy="879120"/>
              <a:chOff x="915120" y="2855880"/>
              <a:chExt cx="1818000" cy="879120"/>
            </a:xfrm>
          </p:grpSpPr>
          <p:sp>
            <p:nvSpPr>
              <p:cNvPr id="90" name=""/>
              <p:cNvSpPr/>
              <p:nvPr/>
            </p:nvSpPr>
            <p:spPr>
              <a:xfrm>
                <a:off x="1281240" y="2855880"/>
                <a:ext cx="1451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(k)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15120" y="3366720"/>
                <a:ext cx="12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 | h(k) =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675520" y="2855880"/>
              <a:ext cx="2615760" cy="879120"/>
              <a:chOff x="2675520" y="2855880"/>
              <a:chExt cx="2615760" cy="879120"/>
            </a:xfrm>
          </p:grpSpPr>
          <p:sp>
            <p:nvSpPr>
              <p:cNvPr id="93" name=""/>
              <p:cNvSpPr/>
              <p:nvPr/>
            </p:nvSpPr>
            <p:spPr>
              <a:xfrm>
                <a:off x="3043800" y="2855880"/>
                <a:ext cx="22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(k) =     .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75520" y="3366720"/>
                <a:ext cx="12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 | h(k) =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410800" y="2931840"/>
              <a:ext cx="1818000" cy="879480"/>
              <a:chOff x="5410800" y="2931840"/>
              <a:chExt cx="1818000" cy="879480"/>
            </a:xfrm>
          </p:grpSpPr>
          <p:sp>
            <p:nvSpPr>
              <p:cNvPr id="96" name=""/>
              <p:cNvSpPr/>
              <p:nvPr/>
            </p:nvSpPr>
            <p:spPr>
              <a:xfrm>
                <a:off x="5776920" y="2931840"/>
                <a:ext cx="1451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(k)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10800" y="3443040"/>
                <a:ext cx="146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 | h(k) = m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7543800" y="2819520"/>
              <a:ext cx="533520" cy="901440"/>
              <a:chOff x="7543800" y="2819520"/>
              <a:chExt cx="533520" cy="901440"/>
            </a:xfrm>
          </p:grpSpPr>
          <p:sp>
            <p:nvSpPr>
              <p:cNvPr id="99" name=""/>
              <p:cNvSpPr/>
              <p:nvPr/>
            </p:nvSpPr>
            <p:spPr>
              <a:xfrm>
                <a:off x="7630920" y="2819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81960" y="320040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43800" y="32763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526680" y="3886200"/>
            <a:ext cx="502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as sum over a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(k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search structures so f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lied on a comparison oper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erformanc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or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I have a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( key )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intege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i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ne that maps a key to an integ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erformance might I expect now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0" y="1219320"/>
            <a:ext cx="9144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A Uniform Hash Function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keys are integ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ly distribute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0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iform hash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hashing functions can be made to map the key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0 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some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63d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63de8"/>
                </a:solidFill>
                <a:latin typeface="Times New Roman"/>
              </a:rPr>
              <a:t>eg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adding the ASCII codes for character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 2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will give values 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 0, 256 )</a:t>
            </a:r>
            <a:r>
              <a:rPr b="1" lang="en-US" sz="18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 0, 255 ]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by </a:t>
            </a:r>
            <a:r>
              <a:rPr b="1" lang="en-US" sz="18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or</a:t>
            </a:r>
            <a:r>
              <a:rPr b="1" lang="en-US" sz="1800" spc="-1" strike="noStrike">
                <a:solidFill>
                  <a:srgbClr val="063de8"/>
                </a:solidFill>
                <a:latin typeface="Times New Roman"/>
              </a:rPr>
              <a:t>   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ame range without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op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2680" y="1128600"/>
            <a:ext cx="2638080" cy="919080"/>
          </a:xfrm>
          <a:prstGeom prst="leftArrow">
            <a:avLst>
              <a:gd name="adj1" fmla="val 50000"/>
              <a:gd name="adj2" fmla="val 71759"/>
            </a:avLst>
          </a:prstGeom>
          <a:solidFill>
            <a:srgbClr val="99cc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 &lt;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499840" y="1981080"/>
            <a:ext cx="1614960" cy="764640"/>
            <a:chOff x="2499840" y="1981080"/>
            <a:chExt cx="1614960" cy="764640"/>
          </a:xfrm>
        </p:grpSpPr>
        <p:sp>
          <p:nvSpPr>
            <p:cNvPr id="108" name=""/>
            <p:cNvSpPr/>
            <p:nvPr/>
          </p:nvSpPr>
          <p:spPr>
            <a:xfrm>
              <a:off x="2499840" y="2174760"/>
              <a:ext cx="10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(k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461760" y="1981080"/>
              <a:ext cx="570960" cy="764640"/>
              <a:chOff x="3461760" y="1981080"/>
              <a:chExt cx="570960" cy="764640"/>
            </a:xfrm>
          </p:grpSpPr>
          <p:sp>
            <p:nvSpPr>
              <p:cNvPr id="110" name=""/>
              <p:cNvSpPr/>
              <p:nvPr/>
            </p:nvSpPr>
            <p:spPr>
              <a:xfrm>
                <a:off x="3461760" y="1981080"/>
                <a:ext cx="57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59320" y="228600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55720" y="243828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429000" y="1981080"/>
              <a:ext cx="152280" cy="762120"/>
              <a:chOff x="3429000" y="1981080"/>
              <a:chExt cx="152280" cy="762120"/>
            </a:xfrm>
          </p:grpSpPr>
          <p:sp>
            <p:nvSpPr>
              <p:cNvPr id="114" name=""/>
              <p:cNvSpPr/>
              <p:nvPr/>
            </p:nvSpPr>
            <p:spPr>
              <a:xfrm>
                <a:off x="3429000" y="19810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29000" y="27432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962520" y="1981080"/>
              <a:ext cx="152280" cy="762120"/>
              <a:chOff x="3962520" y="1981080"/>
              <a:chExt cx="152280" cy="762120"/>
            </a:xfrm>
          </p:grpSpPr>
          <p:sp>
            <p:nvSpPr>
              <p:cNvPr id="117" name=""/>
              <p:cNvSpPr/>
              <p:nvPr/>
            </p:nvSpPr>
            <p:spPr>
              <a:xfrm>
                <a:off x="4114800" y="19810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962520" y="27432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Reducing the range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ve mapped the keys to a range of integ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&lt; 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must reduce this range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0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reasonable size for the hash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ivision - us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func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ultiplic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niversal hashing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Reducing the range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a 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mo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func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(k)  =  k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oice of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s of 2 are generally not good!</a:t>
            </a:r>
            <a:br>
              <a:rPr sz="20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(k)  =  k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a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bits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 combinations are not generally equally likel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rime number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lose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seem to be good choic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4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ry table, choos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40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23200" y="2971800"/>
            <a:ext cx="4232160" cy="1030320"/>
            <a:chOff x="4723200" y="2971800"/>
            <a:chExt cx="4232160" cy="1030320"/>
          </a:xfrm>
        </p:grpSpPr>
        <p:sp>
          <p:nvSpPr>
            <p:cNvPr id="124" name=""/>
            <p:cNvSpPr/>
            <p:nvPr/>
          </p:nvSpPr>
          <p:spPr>
            <a:xfrm>
              <a:off x="4723200" y="3535200"/>
              <a:ext cx="365544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0110010111000011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0" y="3544920"/>
              <a:ext cx="1523880" cy="45720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64120" y="2971800"/>
              <a:ext cx="2991240" cy="552240"/>
            </a:xfrm>
            <a:prstGeom prst="downArrowCallout">
              <a:avLst>
                <a:gd name="adj1" fmla="val 135426"/>
                <a:gd name="adj2" fmla="val 135414"/>
                <a:gd name="adj3" fmla="val 16667"/>
                <a:gd name="adj4" fmla="val 66667"/>
              </a:avLst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mod 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elects these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Reducing the range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ication metho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ultiply the key by constant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 0 &lt; A &lt; 1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xtract the fractional part of the produc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 kA 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ultiply this b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(k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 * ( kA 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ow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s not critical and a power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an be chose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 this procedure is fast on a typical digital computer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 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its)  by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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it produ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st significant bits of lower ha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 ½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-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ems to be a good choice 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nut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Reducing the range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Hash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determined “adversary” can always find a set of data that will defeat any hash func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h all keys to same slo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lect the hash function randomly (at run time)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rom a set of hash func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duced probability of poor performanc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e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f functions, </a:t>
            </a:r>
            <a:r>
              <a:rPr b="1" lang="en-US" sz="2000" spc="-1" strike="noStrike">
                <a:solidFill>
                  <a:srgbClr val="000000"/>
                </a:solidFill>
                <a:latin typeface="Coronet"/>
              </a:rPr>
              <a:t>H,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which map key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0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Coron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onet"/>
              </a:rPr>
              <a:t>H,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i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iversal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if for each pair of key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number of function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</a:t>
            </a:r>
            <a:r>
              <a:rPr b="1" lang="en-US" sz="2000" spc="-1" strike="noStrike">
                <a:solidFill>
                  <a:srgbClr val="000000"/>
                </a:solidFill>
                <a:latin typeface="Coronet"/>
              </a:rPr>
              <a:t>H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whic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(x) = h(y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is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000000"/>
                </a:solidFill>
                <a:latin typeface="Coronet"/>
              </a:rPr>
              <a:t>H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Reducing the rang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Hash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determined “adversary” can always find a set of data that will defeat any hash func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h all keys to same slo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lect the hash function randomly (at run time)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rom a set of hash function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unctions are selected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at run tim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un can give differen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en with the sam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average performance obtain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Reducing the rang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Hash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n we design a set of universal hash functions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Quite easil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ey,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  =  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....,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oose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= &lt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....,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s a sequence of elements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osen randomly fr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{ 0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 }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sequence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 there a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unctions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m a set of universal hash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4400" y="2057400"/>
            <a:ext cx="2355840" cy="510120"/>
          </a:xfrm>
          <a:prstGeom prst="rect">
            <a:avLst/>
          </a:prstGeom>
          <a:solidFill>
            <a:srgbClr val="ffff00"/>
          </a:solidFill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.... 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2057400"/>
            <a:ext cx="0" cy="5335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2057400"/>
            <a:ext cx="0" cy="5335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2057400"/>
            <a:ext cx="0" cy="5335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057400"/>
            <a:ext cx="0" cy="5335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89160" y="266688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 “bytes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4648320"/>
            <a:ext cx="15033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ollision Frequency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thdays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von Mises parado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re are 365 days in a normal yea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thdays on the same day unlikel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How many people do I need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efore “it’s an even bet”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i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he probability is &gt; 50%)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at two have the same birthday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View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ys of the year as the slots in a hash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birthday function” as mapping people to slo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swering von Mises’ question answers the question about the probability of collisions in a hash tabl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18200" y="1378080"/>
          <a:ext cx="244800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8200" y="1378080"/>
                    <a:ext cx="244800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stinct Birthday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(n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probability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ople have distin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th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wo people, the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only 364 “free” birth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3rd has only 363, and so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71240" y="2798640"/>
            <a:ext cx="2391480" cy="911880"/>
            <a:chOff x="2271240" y="2798640"/>
            <a:chExt cx="2391480" cy="911880"/>
          </a:xfrm>
        </p:grpSpPr>
        <p:sp>
          <p:nvSpPr>
            <p:cNvPr id="149" name=""/>
            <p:cNvSpPr/>
            <p:nvPr/>
          </p:nvSpPr>
          <p:spPr>
            <a:xfrm>
              <a:off x="2271240" y="3027240"/>
              <a:ext cx="196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) = Q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*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024080" y="2798640"/>
              <a:ext cx="638640" cy="911880"/>
              <a:chOff x="4024080" y="2798640"/>
              <a:chExt cx="638640" cy="911880"/>
            </a:xfrm>
          </p:grpSpPr>
          <p:sp>
            <p:nvSpPr>
              <p:cNvPr id="151" name=""/>
              <p:cNvSpPr/>
              <p:nvPr/>
            </p:nvSpPr>
            <p:spPr>
              <a:xfrm>
                <a:off x="4024080" y="279864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02200" y="3276720"/>
                <a:ext cx="482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4080" y="325584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814400" y="4322880"/>
            <a:ext cx="5585400" cy="911880"/>
            <a:chOff x="1814400" y="4322880"/>
            <a:chExt cx="5585400" cy="911880"/>
          </a:xfrm>
        </p:grpSpPr>
        <p:sp>
          <p:nvSpPr>
            <p:cNvPr id="155" name=""/>
            <p:cNvSpPr/>
            <p:nvPr/>
          </p:nvSpPr>
          <p:spPr>
            <a:xfrm>
              <a:off x="1814400" y="4551480"/>
              <a:ext cx="198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(n) = Q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*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566880" y="4322880"/>
              <a:ext cx="638640" cy="911880"/>
              <a:chOff x="3566880" y="4322880"/>
              <a:chExt cx="638640" cy="911880"/>
            </a:xfrm>
          </p:grpSpPr>
          <p:sp>
            <p:nvSpPr>
              <p:cNvPr id="157" name=""/>
              <p:cNvSpPr/>
              <p:nvPr/>
            </p:nvSpPr>
            <p:spPr>
              <a:xfrm>
                <a:off x="3566880" y="432288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45000" y="4800600"/>
                <a:ext cx="482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66880" y="478008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633560" y="4322880"/>
              <a:ext cx="638640" cy="911880"/>
              <a:chOff x="4633560" y="4322880"/>
              <a:chExt cx="638640" cy="911880"/>
            </a:xfrm>
          </p:grpSpPr>
          <p:sp>
            <p:nvSpPr>
              <p:cNvPr id="161" name=""/>
              <p:cNvSpPr/>
              <p:nvPr/>
            </p:nvSpPr>
            <p:spPr>
              <a:xfrm>
                <a:off x="4633560" y="432288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11680" y="4800600"/>
                <a:ext cx="4827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33560" y="478008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163560" y="4322880"/>
              <a:ext cx="1236240" cy="911880"/>
              <a:chOff x="6163560" y="4322880"/>
              <a:chExt cx="1236240" cy="911880"/>
            </a:xfrm>
          </p:grpSpPr>
          <p:sp>
            <p:nvSpPr>
              <p:cNvPr id="165" name=""/>
              <p:cNvSpPr/>
              <p:nvPr/>
            </p:nvSpPr>
            <p:spPr>
              <a:xfrm>
                <a:off x="6163560" y="4322880"/>
                <a:ext cx="1236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5-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40480" y="4800600"/>
                <a:ext cx="4827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62360" y="478008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252680" y="45514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09200" y="455148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 …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oincident Birthday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of having two identical birth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(n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- Q(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23 entrie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is onl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365 = 6.3%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587760" y="1473120"/>
          <a:ext cx="507348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7760" y="1473120"/>
                    <a:ext cx="507348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Structur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st ca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ssume items have integer keys in the ran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.. m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the value of the key itself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 select a slot in a </a:t>
            </a:r>
            <a:br>
              <a:rPr sz="2000"/>
            </a:b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rect access tabl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 which to store the ite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 search for an item with key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just look in slo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’s an item ther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’ve found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tag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t’s miss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nstant time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4" name="dir_acc_table" descr=""/>
          <p:cNvPicPr/>
          <p:nvPr/>
        </p:nvPicPr>
        <p:blipFill>
          <a:blip r:embed="rId1"/>
          <a:stretch/>
        </p:blipFill>
        <p:spPr>
          <a:xfrm>
            <a:off x="5533920" y="1981080"/>
            <a:ext cx="3187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oad factor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isions are very probabl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load factor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kept 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analyses of the average chain leng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r number of comparisons/search) are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parate chain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inked lists attached to each sl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s best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t uses more spac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538800" y="1579680"/>
            <a:ext cx="1142640" cy="835560"/>
            <a:chOff x="3538800" y="1579680"/>
            <a:chExt cx="1142640" cy="835560"/>
          </a:xfrm>
        </p:grpSpPr>
        <p:sp>
          <p:nvSpPr>
            <p:cNvPr id="177" name=""/>
            <p:cNvSpPr/>
            <p:nvPr/>
          </p:nvSpPr>
          <p:spPr>
            <a:xfrm>
              <a:off x="3538800" y="1731960"/>
              <a:ext cx="92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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251240" y="1579680"/>
              <a:ext cx="430200" cy="835560"/>
              <a:chOff x="4251240" y="1579680"/>
              <a:chExt cx="430200" cy="835560"/>
            </a:xfrm>
          </p:grpSpPr>
          <p:sp>
            <p:nvSpPr>
              <p:cNvPr id="179" name=""/>
              <p:cNvSpPr/>
              <p:nvPr/>
            </p:nvSpPr>
            <p:spPr>
              <a:xfrm>
                <a:off x="4291200" y="157968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51240" y="1960560"/>
                <a:ext cx="430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38720" y="1981080"/>
                <a:ext cx="2538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5622480" y="1503360"/>
            <a:ext cx="281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number of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22480" y="1884240"/>
            <a:ext cx="276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number of s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General Design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the table siz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arge tables reduce the probability of collisions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able size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t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llision probability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=   n / 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a table organ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oes the collection keep growing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ed lists (....... but consider a tree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ize relatively static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flow are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h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a hash function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11960" y="5029200"/>
            <a:ext cx="750960" cy="673920"/>
          </a:xfrm>
          <a:custGeom>
            <a:avLst/>
            <a:gdLst>
              <a:gd name="textAreaLeft" fmla="*/ 117360 w 750960"/>
              <a:gd name="textAreaRight" fmla="*/ 657360 w 750960"/>
              <a:gd name="textAreaTop" fmla="*/ 168480 h 673920"/>
              <a:gd name="textAreaBottom" fmla="*/ 505440 h 673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General Design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a hash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simple (and fast) one may well be fine .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ad your text for some ideas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the hash function against your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xed data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 variou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,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il the maximum collision chain is accep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n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anging data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some representativ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 variou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,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until collision chain is 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predictable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Review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you can meet the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 Tables will generally give good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Like radix sor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y rely on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alculating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n address from a ke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t, 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unlike radix sort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latively easy to get good performan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th a littl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Symbol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not advisable for unknown data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lection size relatively sta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management is actually simp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 memory is pre-allocated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Constra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eys must be uniqu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eys must lie in a small rang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storage efficiency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eys must b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ns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n the rang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they’r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pars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(lots of gaps between values)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lot of space is used to obtain spee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 for speed trade-o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laxing the constra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 must be un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nstruct a linked list of duplicates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“attached” to each sl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a search can be satisfied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y 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any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tem with key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erformance is st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the item has some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ther distinguishing feature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ich must be matched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e g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s the largest number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f duplicates - or length of the longest chai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9" name="dir_acc_lists" descr=""/>
          <p:cNvPicPr/>
          <p:nvPr/>
        </p:nvPicPr>
        <p:blipFill>
          <a:blip r:embed="rId1"/>
          <a:stretch/>
        </p:blipFill>
        <p:spPr>
          <a:xfrm>
            <a:off x="5638680" y="1728720"/>
            <a:ext cx="311796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laxing the constra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 are integ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eed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ash function</a:t>
            </a:r>
            <a:br>
              <a:rPr sz="20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( key )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intege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i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ne that maps a key to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 integ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pplying this function to the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ey produces an addres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maps each key to a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nique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nteger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n the ran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. m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24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n search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2" name="dir_acc_lists" descr=""/>
          <p:cNvPicPr/>
          <p:nvPr/>
        </p:nvPicPr>
        <p:blipFill>
          <a:blip r:embed="rId1"/>
          <a:stretch/>
        </p:blipFill>
        <p:spPr>
          <a:xfrm>
            <a:off x="5638680" y="1728720"/>
            <a:ext cx="311796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Hash function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of the hash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xample - using an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-character ke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ash( char *s, int n 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t sum =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while( n-- ) sum = sum + *s++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sum % 256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turns a value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.. 255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function is also commonly used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^ *s++;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t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ny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function that generates integer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for some suitable (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not too larg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)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will do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s long as the hash function itself is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Collision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ith this hash func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ash( char *s, int n 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t sum = 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while( n-- ) sum = sum + *s++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sum % 256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(  “AB”, 2 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( “BA”, 2 )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turn the same valu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is is called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llis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variety of techniques are used for resolving collis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43200" y="4572000"/>
            <a:ext cx="167652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Collision handling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i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ccur when the hash function maps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wo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fferent key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o th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ame addres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table must be able to recognise and resolve thi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cognis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the actual key with the item in the hash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the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k = h( key 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for a h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if (  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table[k].key == key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 ) then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hit</a:t>
            </a:r>
            <a:br>
              <a:rPr sz="2000"/>
            </a:b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else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try next entr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solu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ety of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720" y="4267080"/>
            <a:ext cx="4167000" cy="1407240"/>
          </a:xfrm>
          <a:custGeom>
            <a:avLst/>
            <a:gdLst>
              <a:gd name="textAreaLeft" fmla="*/ 650880 w 4167000"/>
              <a:gd name="textAreaRight" fmla="*/ 3646440 w 4167000"/>
              <a:gd name="textAreaTop" fmla="*/ 351720 h 1407240"/>
              <a:gd name="textAreaBottom" fmla="*/ 1055520 h 1407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ll look at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y next ent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00:58:10Z</dcterms:created>
  <dc:creator>jm</dc:creator>
  <dc:description/>
  <dc:language>en-US</dc:language>
  <cp:lastModifiedBy>jm</cp:lastModifiedBy>
  <cp:lastPrinted>1998-08-24T16:56:18Z</cp:lastPrinted>
  <dcterms:modified xsi:type="dcterms:W3CDTF">1999-08-31T03:47:54Z</dcterms:modified>
  <cp:revision>51</cp:revision>
  <dc:subject/>
  <dc:title>Data Structures and Algorithms</dc:title>
</cp:coreProperties>
</file>