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00896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089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07720" y="40089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39720" y="11430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3640" y="11430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0089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39720" y="40089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3640" y="40089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0089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07720" y="40089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0896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700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Data Structures and Algorithm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ked Lis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SD210(ii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Linked Lists -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ind</a:t>
            </a: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implementa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6360" y="1676520"/>
            <a:ext cx="82580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*FindinCollection( Collection c, void *key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de n = c-&gt;hea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 n != NULL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KeyCmp( ItemKey( n-&gt;item ), key ) == 0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n-&gt;ite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 n-&gt;nex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5410080"/>
            <a:ext cx="7924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63de8"/>
                </a:solidFill>
                <a:latin typeface="Arial"/>
              </a:rPr>
              <a:t>A recursive implementation is also possib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Linked Lists -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elete</a:t>
            </a: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implementa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6720" y="1676520"/>
            <a:ext cx="85626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*DeleteFromCollection( Collection c, void *key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de n, prev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 prev = c-&gt;hea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 n != NULL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KeyCmp( ItemKey( n-&gt;item ), key ) == 0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ev-&gt;next = n-&gt;nex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ev = n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n = n-&gt;nex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76920" y="5334120"/>
            <a:ext cx="914400" cy="380880"/>
            <a:chOff x="4876920" y="5334120"/>
            <a:chExt cx="914400" cy="380880"/>
          </a:xfrm>
        </p:grpSpPr>
        <p:sp>
          <p:nvSpPr>
            <p:cNvPr id="163" name=""/>
            <p:cNvSpPr/>
            <p:nvPr/>
          </p:nvSpPr>
          <p:spPr>
            <a:xfrm>
              <a:off x="4876920" y="5334120"/>
              <a:ext cx="533520" cy="380880"/>
            </a:xfrm>
            <a:prstGeom prst="rect">
              <a:avLst/>
            </a:prstGeom>
            <a:solidFill>
              <a:srgbClr val="618ff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10440" y="5334120"/>
              <a:ext cx="380880" cy="3808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24920" y="5448240"/>
              <a:ext cx="152280" cy="152640"/>
            </a:xfrm>
            <a:prstGeom prst="ellipse">
              <a:avLst/>
            </a:prstGeom>
            <a:solidFill>
              <a:srgbClr val="063de8"/>
            </a:solidFill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6019920" y="5334120"/>
            <a:ext cx="914400" cy="380880"/>
            <a:chOff x="6019920" y="5334120"/>
            <a:chExt cx="914400" cy="380880"/>
          </a:xfrm>
        </p:grpSpPr>
        <p:sp>
          <p:nvSpPr>
            <p:cNvPr id="167" name=""/>
            <p:cNvSpPr/>
            <p:nvPr/>
          </p:nvSpPr>
          <p:spPr>
            <a:xfrm>
              <a:off x="6019920" y="5334120"/>
              <a:ext cx="533520" cy="380880"/>
            </a:xfrm>
            <a:prstGeom prst="rect">
              <a:avLst/>
            </a:prstGeom>
            <a:solidFill>
              <a:srgbClr val="618ff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553440" y="5334120"/>
              <a:ext cx="380880" cy="3808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67920" y="5448240"/>
              <a:ext cx="152280" cy="152640"/>
            </a:xfrm>
            <a:prstGeom prst="ellipse">
              <a:avLst/>
            </a:prstGeom>
            <a:solidFill>
              <a:srgbClr val="063de8"/>
            </a:solidFill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7162920" y="5334120"/>
            <a:ext cx="914400" cy="380880"/>
            <a:chOff x="7162920" y="5334120"/>
            <a:chExt cx="914400" cy="380880"/>
          </a:xfrm>
        </p:grpSpPr>
        <p:sp>
          <p:nvSpPr>
            <p:cNvPr id="171" name=""/>
            <p:cNvSpPr/>
            <p:nvPr/>
          </p:nvSpPr>
          <p:spPr>
            <a:xfrm>
              <a:off x="7162920" y="5334120"/>
              <a:ext cx="533520" cy="380880"/>
            </a:xfrm>
            <a:prstGeom prst="rect">
              <a:avLst/>
            </a:prstGeom>
            <a:solidFill>
              <a:srgbClr val="618ff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96440" y="5334120"/>
              <a:ext cx="380880" cy="3808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810920" y="5448240"/>
              <a:ext cx="152280" cy="152640"/>
            </a:xfrm>
            <a:prstGeom prst="ellipse">
              <a:avLst/>
            </a:prstGeom>
            <a:solidFill>
              <a:srgbClr val="063de8"/>
            </a:solidFill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733920" y="5334120"/>
            <a:ext cx="380880" cy="380880"/>
            <a:chOff x="3733920" y="5334120"/>
            <a:chExt cx="380880" cy="380880"/>
          </a:xfrm>
        </p:grpSpPr>
        <p:sp>
          <p:nvSpPr>
            <p:cNvPr id="175" name=""/>
            <p:cNvSpPr/>
            <p:nvPr/>
          </p:nvSpPr>
          <p:spPr>
            <a:xfrm>
              <a:off x="3733920" y="5334120"/>
              <a:ext cx="380880" cy="3808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48400" y="5448240"/>
              <a:ext cx="152280" cy="152640"/>
            </a:xfrm>
            <a:prstGeom prst="ellipse">
              <a:avLst/>
            </a:prstGeom>
            <a:solidFill>
              <a:srgbClr val="063de8"/>
            </a:solidFill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3506400" y="495288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86200" y="5524560"/>
            <a:ext cx="990720" cy="0"/>
          </a:xfrm>
          <a:prstGeom prst="line">
            <a:avLst/>
          </a:prstGeom>
          <a:ln w="3816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62720" y="5524560"/>
            <a:ext cx="457200" cy="0"/>
          </a:xfrm>
          <a:prstGeom prst="line">
            <a:avLst/>
          </a:prstGeom>
          <a:ln w="3816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05720" y="5524560"/>
            <a:ext cx="457200" cy="0"/>
          </a:xfrm>
          <a:prstGeom prst="line">
            <a:avLst/>
          </a:prstGeom>
          <a:ln w="3816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6248160" y="5181480"/>
            <a:ext cx="533160" cy="68580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48520" y="5181480"/>
            <a:ext cx="533160" cy="68580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686480"/>
            <a:ext cx="1752840" cy="876240"/>
          </a:xfrm>
          <a:custGeom>
            <a:avLst/>
            <a:gdLst/>
            <a:ahLst/>
            <a:rect l="l" t="t" r="r" b="b"/>
            <a:pathLst>
              <a:path w="1104" h="552">
                <a:moveTo>
                  <a:pt x="0" y="552"/>
                </a:moveTo>
                <a:cubicBezTo>
                  <a:pt x="88" y="348"/>
                  <a:pt x="176" y="144"/>
                  <a:pt x="336" y="72"/>
                </a:cubicBezTo>
                <a:cubicBezTo>
                  <a:pt x="496" y="0"/>
                  <a:pt x="832" y="64"/>
                  <a:pt x="960" y="120"/>
                </a:cubicBezTo>
                <a:cubicBezTo>
                  <a:pt x="1088" y="176"/>
                  <a:pt x="1096" y="292"/>
                  <a:pt x="1104" y="408"/>
                </a:cubicBezTo>
              </a:path>
            </a:pathLst>
          </a:custGeom>
          <a:noFill/>
          <a:ln w="28440">
            <a:solidFill>
              <a:srgbClr val="063de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Linked Lists -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elete</a:t>
            </a: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implementa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6720" y="1676520"/>
            <a:ext cx="85626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*DeleteFromCollection( Collection c, void *key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de n, prev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 prev = c-&gt;hea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 n != NULL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KeyCmp( ItemKey( n-&gt;item ), key ) == 0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ev-&gt;next = n-&gt;nex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ev = n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n = n-&gt;nex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4876920" y="5334120"/>
            <a:ext cx="914400" cy="380880"/>
            <a:chOff x="4876920" y="5334120"/>
            <a:chExt cx="914400" cy="380880"/>
          </a:xfrm>
        </p:grpSpPr>
        <p:sp>
          <p:nvSpPr>
            <p:cNvPr id="188" name=""/>
            <p:cNvSpPr/>
            <p:nvPr/>
          </p:nvSpPr>
          <p:spPr>
            <a:xfrm>
              <a:off x="4876920" y="5334120"/>
              <a:ext cx="533520" cy="380880"/>
            </a:xfrm>
            <a:prstGeom prst="rect">
              <a:avLst/>
            </a:prstGeom>
            <a:solidFill>
              <a:srgbClr val="618ff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10440" y="5334120"/>
              <a:ext cx="380880" cy="3808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24920" y="5448240"/>
              <a:ext cx="152280" cy="152640"/>
            </a:xfrm>
            <a:prstGeom prst="ellipse">
              <a:avLst/>
            </a:prstGeom>
            <a:solidFill>
              <a:srgbClr val="063de8"/>
            </a:solidFill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019920" y="5334120"/>
            <a:ext cx="914400" cy="380880"/>
            <a:chOff x="6019920" y="5334120"/>
            <a:chExt cx="914400" cy="380880"/>
          </a:xfrm>
        </p:grpSpPr>
        <p:sp>
          <p:nvSpPr>
            <p:cNvPr id="192" name=""/>
            <p:cNvSpPr/>
            <p:nvPr/>
          </p:nvSpPr>
          <p:spPr>
            <a:xfrm>
              <a:off x="6019920" y="5334120"/>
              <a:ext cx="533520" cy="380880"/>
            </a:xfrm>
            <a:prstGeom prst="rect">
              <a:avLst/>
            </a:prstGeom>
            <a:solidFill>
              <a:srgbClr val="618ff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553440" y="5334120"/>
              <a:ext cx="380880" cy="3808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667920" y="5448240"/>
              <a:ext cx="152280" cy="152640"/>
            </a:xfrm>
            <a:prstGeom prst="ellipse">
              <a:avLst/>
            </a:prstGeom>
            <a:solidFill>
              <a:srgbClr val="063de8"/>
            </a:solidFill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7162920" y="5334120"/>
            <a:ext cx="914400" cy="380880"/>
            <a:chOff x="7162920" y="5334120"/>
            <a:chExt cx="914400" cy="380880"/>
          </a:xfrm>
        </p:grpSpPr>
        <p:sp>
          <p:nvSpPr>
            <p:cNvPr id="196" name=""/>
            <p:cNvSpPr/>
            <p:nvPr/>
          </p:nvSpPr>
          <p:spPr>
            <a:xfrm>
              <a:off x="7162920" y="5334120"/>
              <a:ext cx="533520" cy="380880"/>
            </a:xfrm>
            <a:prstGeom prst="rect">
              <a:avLst/>
            </a:prstGeom>
            <a:solidFill>
              <a:srgbClr val="618ff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696440" y="5334120"/>
              <a:ext cx="380880" cy="3808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810920" y="5448240"/>
              <a:ext cx="152280" cy="152640"/>
            </a:xfrm>
            <a:prstGeom prst="ellipse">
              <a:avLst/>
            </a:prstGeom>
            <a:solidFill>
              <a:srgbClr val="063de8"/>
            </a:solidFill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733920" y="5334120"/>
            <a:ext cx="380880" cy="380880"/>
            <a:chOff x="3733920" y="5334120"/>
            <a:chExt cx="380880" cy="380880"/>
          </a:xfrm>
        </p:grpSpPr>
        <p:sp>
          <p:nvSpPr>
            <p:cNvPr id="200" name=""/>
            <p:cNvSpPr/>
            <p:nvPr/>
          </p:nvSpPr>
          <p:spPr>
            <a:xfrm>
              <a:off x="3733920" y="5334120"/>
              <a:ext cx="380880" cy="3808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48400" y="5448240"/>
              <a:ext cx="152280" cy="152640"/>
            </a:xfrm>
            <a:prstGeom prst="ellipse">
              <a:avLst/>
            </a:prstGeom>
            <a:solidFill>
              <a:srgbClr val="063de8"/>
            </a:solidFill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3506400" y="495288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5524560"/>
            <a:ext cx="990720" cy="0"/>
          </a:xfrm>
          <a:prstGeom prst="line">
            <a:avLst/>
          </a:prstGeom>
          <a:ln w="3816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562720" y="5524560"/>
            <a:ext cx="457200" cy="0"/>
          </a:xfrm>
          <a:prstGeom prst="line">
            <a:avLst/>
          </a:prstGeom>
          <a:ln w="3816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05720" y="5524560"/>
            <a:ext cx="457200" cy="0"/>
          </a:xfrm>
          <a:prstGeom prst="line">
            <a:avLst/>
          </a:prstGeom>
          <a:ln w="3816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05160" y="5181480"/>
            <a:ext cx="533160" cy="68580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05520" y="5181480"/>
            <a:ext cx="533160" cy="68580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651480" y="6019920"/>
            <a:ext cx="4357440" cy="779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or addition needed to al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deleting this one! An exercis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Linked List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LIFO and FIFO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est imple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dd to head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fc0128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Last-In-First-Out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(LIFO) semantics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ific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First-In-First-Out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(FIFO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Keep a tail pointer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68480" y="4114800"/>
            <a:ext cx="4447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uct t_nod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*item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struct t_node *nex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} nod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def struct t_node *Nod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uct collection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de head, tai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635440" y="5181480"/>
            <a:ext cx="3061080" cy="1455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i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set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To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ad == 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5791320" y="3886200"/>
            <a:ext cx="914400" cy="380880"/>
            <a:chOff x="5791320" y="3886200"/>
            <a:chExt cx="914400" cy="380880"/>
          </a:xfrm>
        </p:grpSpPr>
        <p:sp>
          <p:nvSpPr>
            <p:cNvPr id="214" name=""/>
            <p:cNvSpPr/>
            <p:nvPr/>
          </p:nvSpPr>
          <p:spPr>
            <a:xfrm>
              <a:off x="5791320" y="3886200"/>
              <a:ext cx="533520" cy="380880"/>
            </a:xfrm>
            <a:prstGeom prst="rect">
              <a:avLst/>
            </a:prstGeom>
            <a:solidFill>
              <a:srgbClr val="618ff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24840" y="3886200"/>
              <a:ext cx="380880" cy="3808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39320" y="4000320"/>
              <a:ext cx="152280" cy="152640"/>
            </a:xfrm>
            <a:prstGeom prst="ellipse">
              <a:avLst/>
            </a:prstGeom>
            <a:solidFill>
              <a:srgbClr val="063de8"/>
            </a:solidFill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34320" y="3886200"/>
            <a:ext cx="914400" cy="380880"/>
            <a:chOff x="6934320" y="3886200"/>
            <a:chExt cx="914400" cy="380880"/>
          </a:xfrm>
        </p:grpSpPr>
        <p:sp>
          <p:nvSpPr>
            <p:cNvPr id="218" name=""/>
            <p:cNvSpPr/>
            <p:nvPr/>
          </p:nvSpPr>
          <p:spPr>
            <a:xfrm>
              <a:off x="6934320" y="3886200"/>
              <a:ext cx="533520" cy="380880"/>
            </a:xfrm>
            <a:prstGeom prst="rect">
              <a:avLst/>
            </a:prstGeom>
            <a:solidFill>
              <a:srgbClr val="618ff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467840" y="3886200"/>
              <a:ext cx="380880" cy="3808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82320" y="4000320"/>
              <a:ext cx="152280" cy="152640"/>
            </a:xfrm>
            <a:prstGeom prst="ellipse">
              <a:avLst/>
            </a:prstGeom>
            <a:solidFill>
              <a:srgbClr val="063de8"/>
            </a:solidFill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8077320" y="3886200"/>
            <a:ext cx="914400" cy="380880"/>
            <a:chOff x="8077320" y="3886200"/>
            <a:chExt cx="914400" cy="380880"/>
          </a:xfrm>
        </p:grpSpPr>
        <p:sp>
          <p:nvSpPr>
            <p:cNvPr id="222" name=""/>
            <p:cNvSpPr/>
            <p:nvPr/>
          </p:nvSpPr>
          <p:spPr>
            <a:xfrm>
              <a:off x="8077320" y="3886200"/>
              <a:ext cx="533520" cy="380880"/>
            </a:xfrm>
            <a:prstGeom prst="rect">
              <a:avLst/>
            </a:prstGeom>
            <a:solidFill>
              <a:srgbClr val="618ff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610840" y="3886200"/>
              <a:ext cx="380880" cy="3808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25320" y="4000320"/>
              <a:ext cx="152280" cy="152640"/>
            </a:xfrm>
            <a:prstGeom prst="ellipse">
              <a:avLst/>
            </a:prstGeom>
            <a:solidFill>
              <a:srgbClr val="063de8"/>
            </a:solidFill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013360" y="3886200"/>
            <a:ext cx="380880" cy="380880"/>
            <a:chOff x="5013360" y="3886200"/>
            <a:chExt cx="380880" cy="380880"/>
          </a:xfrm>
        </p:grpSpPr>
        <p:sp>
          <p:nvSpPr>
            <p:cNvPr id="226" name=""/>
            <p:cNvSpPr/>
            <p:nvPr/>
          </p:nvSpPr>
          <p:spPr>
            <a:xfrm>
              <a:off x="5013360" y="3886200"/>
              <a:ext cx="380880" cy="3808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127840" y="4000320"/>
              <a:ext cx="152280" cy="152640"/>
            </a:xfrm>
            <a:prstGeom prst="ellipse">
              <a:avLst/>
            </a:prstGeom>
            <a:solidFill>
              <a:srgbClr val="063de8"/>
            </a:solidFill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4786200" y="350532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57800" y="4076640"/>
            <a:ext cx="533520" cy="0"/>
          </a:xfrm>
          <a:prstGeom prst="line">
            <a:avLst/>
          </a:prstGeom>
          <a:ln w="3816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477120" y="4076640"/>
            <a:ext cx="457200" cy="0"/>
          </a:xfrm>
          <a:prstGeom prst="line">
            <a:avLst/>
          </a:prstGeom>
          <a:ln w="3816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0120" y="4076640"/>
            <a:ext cx="457200" cy="0"/>
          </a:xfrm>
          <a:prstGeom prst="line">
            <a:avLst/>
          </a:prstGeom>
          <a:ln w="3816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029200" y="4572000"/>
            <a:ext cx="380880" cy="380880"/>
            <a:chOff x="5029200" y="4572000"/>
            <a:chExt cx="380880" cy="380880"/>
          </a:xfrm>
        </p:grpSpPr>
        <p:sp>
          <p:nvSpPr>
            <p:cNvPr id="233" name=""/>
            <p:cNvSpPr/>
            <p:nvPr/>
          </p:nvSpPr>
          <p:spPr>
            <a:xfrm>
              <a:off x="5029200" y="4572000"/>
              <a:ext cx="380880" cy="3808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143680" y="4686120"/>
              <a:ext cx="152280" cy="152640"/>
            </a:xfrm>
            <a:prstGeom prst="ellipse">
              <a:avLst/>
            </a:prstGeom>
            <a:solidFill>
              <a:srgbClr val="063de8"/>
            </a:solidFill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4801320" y="419112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8153280" y="4267080"/>
            <a:ext cx="0" cy="457200"/>
          </a:xfrm>
          <a:prstGeom prst="line">
            <a:avLst/>
          </a:prstGeom>
          <a:ln w="3816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257800" y="4724280"/>
            <a:ext cx="2895480" cy="0"/>
          </a:xfrm>
          <a:prstGeom prst="line">
            <a:avLst/>
          </a:prstGeom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124080" y="2743200"/>
            <a:ext cx="990720" cy="380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Linked List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Doubly linked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Doubly link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is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Can be scanned in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both directions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2680" y="2133720"/>
            <a:ext cx="4447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uct t_nod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*item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struct t_node *prev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nex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} nod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def struct t_node *Nod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uct collection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de head, tai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048120" y="5257800"/>
            <a:ext cx="380880" cy="380880"/>
            <a:chOff x="3048120" y="5257800"/>
            <a:chExt cx="380880" cy="380880"/>
          </a:xfrm>
        </p:grpSpPr>
        <p:sp>
          <p:nvSpPr>
            <p:cNvPr id="243" name=""/>
            <p:cNvSpPr/>
            <p:nvPr/>
          </p:nvSpPr>
          <p:spPr>
            <a:xfrm>
              <a:off x="3048120" y="5257800"/>
              <a:ext cx="380880" cy="3808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62600" y="5371920"/>
              <a:ext cx="152280" cy="152640"/>
            </a:xfrm>
            <a:prstGeom prst="ellipse">
              <a:avLst/>
            </a:prstGeom>
            <a:solidFill>
              <a:srgbClr val="063de8"/>
            </a:solidFill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2820600" y="487692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92560" y="5448240"/>
            <a:ext cx="533160" cy="0"/>
          </a:xfrm>
          <a:prstGeom prst="line">
            <a:avLst/>
          </a:prstGeom>
          <a:ln w="3816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3063960" y="5943600"/>
            <a:ext cx="380880" cy="380880"/>
            <a:chOff x="3063960" y="5943600"/>
            <a:chExt cx="380880" cy="380880"/>
          </a:xfrm>
        </p:grpSpPr>
        <p:sp>
          <p:nvSpPr>
            <p:cNvPr id="248" name=""/>
            <p:cNvSpPr/>
            <p:nvPr/>
          </p:nvSpPr>
          <p:spPr>
            <a:xfrm>
              <a:off x="3063960" y="5943600"/>
              <a:ext cx="380880" cy="3808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78440" y="6057720"/>
              <a:ext cx="152280" cy="152640"/>
            </a:xfrm>
            <a:prstGeom prst="ellipse">
              <a:avLst/>
            </a:prstGeom>
            <a:solidFill>
              <a:srgbClr val="063de8"/>
            </a:solidFill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2836080" y="556272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7162920" y="5715000"/>
            <a:ext cx="0" cy="457200"/>
          </a:xfrm>
          <a:prstGeom prst="line">
            <a:avLst/>
          </a:prstGeom>
          <a:ln w="3816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76720" y="6172200"/>
            <a:ext cx="3886200" cy="0"/>
          </a:xfrm>
          <a:prstGeom prst="line">
            <a:avLst/>
          </a:prstGeom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3886200" y="5257800"/>
            <a:ext cx="1295280" cy="380880"/>
            <a:chOff x="3886200" y="5257800"/>
            <a:chExt cx="1295280" cy="380880"/>
          </a:xfrm>
        </p:grpSpPr>
        <p:sp>
          <p:nvSpPr>
            <p:cNvPr id="254" name=""/>
            <p:cNvSpPr/>
            <p:nvPr/>
          </p:nvSpPr>
          <p:spPr>
            <a:xfrm>
              <a:off x="3886200" y="5257800"/>
              <a:ext cx="533160" cy="380880"/>
            </a:xfrm>
            <a:prstGeom prst="rect">
              <a:avLst/>
            </a:prstGeom>
            <a:solidFill>
              <a:srgbClr val="618ff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419360" y="5257800"/>
              <a:ext cx="381240" cy="380880"/>
              <a:chOff x="4419360" y="5257800"/>
              <a:chExt cx="381240" cy="380880"/>
            </a:xfrm>
          </p:grpSpPr>
          <p:sp>
            <p:nvSpPr>
              <p:cNvPr id="256" name=""/>
              <p:cNvSpPr/>
              <p:nvPr/>
            </p:nvSpPr>
            <p:spPr>
              <a:xfrm>
                <a:off x="4419360" y="5257800"/>
                <a:ext cx="381240" cy="38088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533840" y="5371920"/>
                <a:ext cx="152280" cy="152640"/>
              </a:xfrm>
              <a:prstGeom prst="ellipse">
                <a:avLst/>
              </a:prstGeom>
              <a:solidFill>
                <a:srgbClr val="063de8"/>
              </a:solidFill>
              <a:ln w="12600">
                <a:solidFill>
                  <a:srgbClr val="063d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00600" y="5257800"/>
              <a:ext cx="380880" cy="380880"/>
              <a:chOff x="4800600" y="5257800"/>
              <a:chExt cx="380880" cy="380880"/>
            </a:xfrm>
          </p:grpSpPr>
          <p:sp>
            <p:nvSpPr>
              <p:cNvPr id="259" name=""/>
              <p:cNvSpPr/>
              <p:nvPr/>
            </p:nvSpPr>
            <p:spPr>
              <a:xfrm>
                <a:off x="4800600" y="5257800"/>
                <a:ext cx="380880" cy="38088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914720" y="5371920"/>
                <a:ext cx="151920" cy="152640"/>
              </a:xfrm>
              <a:prstGeom prst="ellipse">
                <a:avLst/>
              </a:prstGeom>
              <a:solidFill>
                <a:srgbClr val="063de8"/>
              </a:solidFill>
              <a:ln w="12600">
                <a:solidFill>
                  <a:srgbClr val="063d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1" name=""/>
          <p:cNvSpPr/>
          <p:nvPr/>
        </p:nvSpPr>
        <p:spPr>
          <a:xfrm>
            <a:off x="5029200" y="5448240"/>
            <a:ext cx="457200" cy="0"/>
          </a:xfrm>
          <a:prstGeom prst="line">
            <a:avLst/>
          </a:prstGeom>
          <a:ln w="3816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3962520" y="5867280"/>
            <a:ext cx="2286000" cy="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2520" y="5638680"/>
            <a:ext cx="0" cy="228600"/>
          </a:xfrm>
          <a:prstGeom prst="line">
            <a:avLst/>
          </a:prstGeom>
          <a:ln w="38160">
            <a:solidFill>
              <a:srgbClr val="00ae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5486400" y="5257800"/>
            <a:ext cx="1295280" cy="380880"/>
            <a:chOff x="5486400" y="5257800"/>
            <a:chExt cx="1295280" cy="380880"/>
          </a:xfrm>
        </p:grpSpPr>
        <p:sp>
          <p:nvSpPr>
            <p:cNvPr id="265" name=""/>
            <p:cNvSpPr/>
            <p:nvPr/>
          </p:nvSpPr>
          <p:spPr>
            <a:xfrm>
              <a:off x="5486400" y="5257800"/>
              <a:ext cx="533160" cy="380880"/>
            </a:xfrm>
            <a:prstGeom prst="rect">
              <a:avLst/>
            </a:prstGeom>
            <a:solidFill>
              <a:srgbClr val="618ff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6019560" y="5257800"/>
              <a:ext cx="381240" cy="380880"/>
              <a:chOff x="6019560" y="5257800"/>
              <a:chExt cx="381240" cy="380880"/>
            </a:xfrm>
          </p:grpSpPr>
          <p:sp>
            <p:nvSpPr>
              <p:cNvPr id="267" name=""/>
              <p:cNvSpPr/>
              <p:nvPr/>
            </p:nvSpPr>
            <p:spPr>
              <a:xfrm>
                <a:off x="6019560" y="5257800"/>
                <a:ext cx="381240" cy="38088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134040" y="5371920"/>
                <a:ext cx="152280" cy="152640"/>
              </a:xfrm>
              <a:prstGeom prst="ellipse">
                <a:avLst/>
              </a:prstGeom>
              <a:solidFill>
                <a:srgbClr val="063de8"/>
              </a:solidFill>
              <a:ln w="12600">
                <a:solidFill>
                  <a:srgbClr val="063d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6400800" y="5257800"/>
              <a:ext cx="380880" cy="380880"/>
              <a:chOff x="6400800" y="5257800"/>
              <a:chExt cx="380880" cy="380880"/>
            </a:xfrm>
          </p:grpSpPr>
          <p:sp>
            <p:nvSpPr>
              <p:cNvPr id="270" name=""/>
              <p:cNvSpPr/>
              <p:nvPr/>
            </p:nvSpPr>
            <p:spPr>
              <a:xfrm>
                <a:off x="6400800" y="5257800"/>
                <a:ext cx="380880" cy="38088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514920" y="5371920"/>
                <a:ext cx="151920" cy="152640"/>
              </a:xfrm>
              <a:prstGeom prst="ellipse">
                <a:avLst/>
              </a:prstGeom>
              <a:solidFill>
                <a:srgbClr val="063de8"/>
              </a:solidFill>
              <a:ln w="12600">
                <a:solidFill>
                  <a:srgbClr val="063d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"/>
          <p:cNvSpPr/>
          <p:nvPr/>
        </p:nvSpPr>
        <p:spPr>
          <a:xfrm>
            <a:off x="6629400" y="5448240"/>
            <a:ext cx="457200" cy="0"/>
          </a:xfrm>
          <a:prstGeom prst="line">
            <a:avLst/>
          </a:prstGeom>
          <a:ln w="3816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5562720" y="6019920"/>
            <a:ext cx="2286000" cy="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562720" y="5638680"/>
            <a:ext cx="0" cy="381240"/>
          </a:xfrm>
          <a:prstGeom prst="line">
            <a:avLst/>
          </a:prstGeom>
          <a:ln w="38160">
            <a:solidFill>
              <a:srgbClr val="00ae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7086600" y="5257800"/>
            <a:ext cx="1295280" cy="380880"/>
            <a:chOff x="7086600" y="5257800"/>
            <a:chExt cx="1295280" cy="380880"/>
          </a:xfrm>
        </p:grpSpPr>
        <p:sp>
          <p:nvSpPr>
            <p:cNvPr id="276" name=""/>
            <p:cNvSpPr/>
            <p:nvPr/>
          </p:nvSpPr>
          <p:spPr>
            <a:xfrm>
              <a:off x="7086600" y="5257800"/>
              <a:ext cx="533160" cy="380880"/>
            </a:xfrm>
            <a:prstGeom prst="rect">
              <a:avLst/>
            </a:prstGeom>
            <a:solidFill>
              <a:srgbClr val="618ff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7619760" y="5257800"/>
              <a:ext cx="381240" cy="380880"/>
              <a:chOff x="7619760" y="5257800"/>
              <a:chExt cx="381240" cy="380880"/>
            </a:xfrm>
          </p:grpSpPr>
          <p:sp>
            <p:nvSpPr>
              <p:cNvPr id="278" name=""/>
              <p:cNvSpPr/>
              <p:nvPr/>
            </p:nvSpPr>
            <p:spPr>
              <a:xfrm>
                <a:off x="7619760" y="5257800"/>
                <a:ext cx="381240" cy="38088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734240" y="5371920"/>
                <a:ext cx="152280" cy="152640"/>
              </a:xfrm>
              <a:prstGeom prst="ellipse">
                <a:avLst/>
              </a:prstGeom>
              <a:solidFill>
                <a:srgbClr val="063de8"/>
              </a:solidFill>
              <a:ln w="12600">
                <a:solidFill>
                  <a:srgbClr val="063d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8001000" y="5257800"/>
              <a:ext cx="380880" cy="380880"/>
              <a:chOff x="8001000" y="5257800"/>
              <a:chExt cx="380880" cy="380880"/>
            </a:xfrm>
          </p:grpSpPr>
          <p:sp>
            <p:nvSpPr>
              <p:cNvPr id="281" name=""/>
              <p:cNvSpPr/>
              <p:nvPr/>
            </p:nvSpPr>
            <p:spPr>
              <a:xfrm>
                <a:off x="8001000" y="5257800"/>
                <a:ext cx="380880" cy="38088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115120" y="5371920"/>
                <a:ext cx="151920" cy="152640"/>
              </a:xfrm>
              <a:prstGeom prst="ellipse">
                <a:avLst/>
              </a:prstGeom>
              <a:solidFill>
                <a:srgbClr val="063de8"/>
              </a:solidFill>
              <a:ln w="12600">
                <a:solidFill>
                  <a:srgbClr val="063d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3" name=""/>
          <p:cNvSpPr/>
          <p:nvPr/>
        </p:nvSpPr>
        <p:spPr>
          <a:xfrm>
            <a:off x="7848720" y="5486400"/>
            <a:ext cx="0" cy="53352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486400"/>
            <a:ext cx="0" cy="38088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345200" y="495288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945400" y="495288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545600" y="495288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tack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s are a special form of collec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LIF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eman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metho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push( Stack s, void *item );</a:t>
            </a:r>
            <a:br>
              <a:rPr sz="2000"/>
            </a:b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- add item to the top of the stack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5420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*pop( Stack s );</a:t>
            </a:r>
            <a:br>
              <a:rPr sz="2000"/>
            </a:b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- remove an item from the top of the stack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282960" indent="-28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 a plate stack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metho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sEmpty( Stack s 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 Return TRUE if empty */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*Top( Stack s 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 Return the item at the top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without deleting it */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290" name="stack" descr=""/>
          <p:cNvPicPr/>
          <p:nvPr/>
        </p:nvPicPr>
        <p:blipFill>
          <a:blip r:embed="rId1"/>
          <a:stretch/>
        </p:blipFill>
        <p:spPr>
          <a:xfrm>
            <a:off x="6229440" y="4105440"/>
            <a:ext cx="215244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tack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Implementa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1000"/>
          </a:bodyPr>
          <a:p>
            <a:pPr marL="174240" indent="-174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r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1742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Provide a stack capacity to the constructor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464760" indent="-1742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Flexibility limited </a:t>
            </a:r>
            <a:r>
              <a:rPr b="1" i="1" lang="en-US" sz="2400" spc="-1" strike="noStrike">
                <a:solidFill>
                  <a:srgbClr val="063de8"/>
                </a:solidFill>
                <a:latin typeface="Arial"/>
              </a:rPr>
              <a:t>but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matches many real uses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720360" indent="-139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city limited by some constrai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75960" indent="-13932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Memory in your computer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3" marL="975960" indent="-13932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ize of the plate stacker, etc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174240" indent="-174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ush, po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ethod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1742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Variants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ToC…, DeleteFromC…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174240" indent="-174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ked list also possi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ck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1742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63de8"/>
                </a:solidFill>
                <a:latin typeface="Arial"/>
              </a:rPr>
              <a:t>basically a Collection with special semantics!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tack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Relevance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208440" indent="-20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cks appear in computer progra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6200" indent="-2084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Key to call / return in functions &amp; procedures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556200" indent="-2084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Stack frame allows recursive calls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556200" indent="-2084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Call: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sh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stack frame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556200" indent="-2084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Return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p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stack frame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208440" indent="-20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ck fra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6200" indent="-2084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Function arguments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556200" indent="-2084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Return address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556200" indent="-20844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Local variables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55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tack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Implementa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rays comm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Provide a stack capacity to the constructor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Flexibility limited but matches many real uses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11811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 created with limited capacit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82680" y="2133720"/>
            <a:ext cx="4447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uct t_nod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*item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struct t_node *prev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nex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} nod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def struct t_node *Nod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uct collection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de head, tai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3048120" y="5257800"/>
            <a:ext cx="380880" cy="380880"/>
            <a:chOff x="3048120" y="5257800"/>
            <a:chExt cx="380880" cy="380880"/>
          </a:xfrm>
        </p:grpSpPr>
        <p:sp>
          <p:nvSpPr>
            <p:cNvPr id="299" name=""/>
            <p:cNvSpPr/>
            <p:nvPr/>
          </p:nvSpPr>
          <p:spPr>
            <a:xfrm>
              <a:off x="3048120" y="5257800"/>
              <a:ext cx="380880" cy="3808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162600" y="5371920"/>
              <a:ext cx="152280" cy="152640"/>
            </a:xfrm>
            <a:prstGeom prst="ellipse">
              <a:avLst/>
            </a:prstGeom>
            <a:solidFill>
              <a:srgbClr val="063de8"/>
            </a:solidFill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2820600" y="487692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92560" y="5448240"/>
            <a:ext cx="533160" cy="0"/>
          </a:xfrm>
          <a:prstGeom prst="line">
            <a:avLst/>
          </a:prstGeom>
          <a:ln w="3816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3063960" y="5943600"/>
            <a:ext cx="380880" cy="380880"/>
            <a:chOff x="3063960" y="5943600"/>
            <a:chExt cx="380880" cy="380880"/>
          </a:xfrm>
        </p:grpSpPr>
        <p:sp>
          <p:nvSpPr>
            <p:cNvPr id="304" name=""/>
            <p:cNvSpPr/>
            <p:nvPr/>
          </p:nvSpPr>
          <p:spPr>
            <a:xfrm>
              <a:off x="3063960" y="5943600"/>
              <a:ext cx="380880" cy="3808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178440" y="6057720"/>
              <a:ext cx="152280" cy="152640"/>
            </a:xfrm>
            <a:prstGeom prst="ellipse">
              <a:avLst/>
            </a:prstGeom>
            <a:solidFill>
              <a:srgbClr val="063de8"/>
            </a:solidFill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2836080" y="556272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7162920" y="5715000"/>
            <a:ext cx="0" cy="457200"/>
          </a:xfrm>
          <a:prstGeom prst="line">
            <a:avLst/>
          </a:prstGeom>
          <a:ln w="3816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76720" y="6172200"/>
            <a:ext cx="3886200" cy="0"/>
          </a:xfrm>
          <a:prstGeom prst="line">
            <a:avLst/>
          </a:prstGeom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886200" y="5257800"/>
            <a:ext cx="1295280" cy="380880"/>
            <a:chOff x="3886200" y="5257800"/>
            <a:chExt cx="1295280" cy="380880"/>
          </a:xfrm>
        </p:grpSpPr>
        <p:sp>
          <p:nvSpPr>
            <p:cNvPr id="310" name=""/>
            <p:cNvSpPr/>
            <p:nvPr/>
          </p:nvSpPr>
          <p:spPr>
            <a:xfrm>
              <a:off x="3886200" y="5257800"/>
              <a:ext cx="533160" cy="380880"/>
            </a:xfrm>
            <a:prstGeom prst="rect">
              <a:avLst/>
            </a:prstGeom>
            <a:solidFill>
              <a:srgbClr val="618ff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4419360" y="5257800"/>
              <a:ext cx="381240" cy="380880"/>
              <a:chOff x="4419360" y="5257800"/>
              <a:chExt cx="381240" cy="380880"/>
            </a:xfrm>
          </p:grpSpPr>
          <p:sp>
            <p:nvSpPr>
              <p:cNvPr id="312" name=""/>
              <p:cNvSpPr/>
              <p:nvPr/>
            </p:nvSpPr>
            <p:spPr>
              <a:xfrm>
                <a:off x="4419360" y="5257800"/>
                <a:ext cx="381240" cy="38088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533840" y="5371920"/>
                <a:ext cx="152280" cy="152640"/>
              </a:xfrm>
              <a:prstGeom prst="ellipse">
                <a:avLst/>
              </a:prstGeom>
              <a:solidFill>
                <a:srgbClr val="063de8"/>
              </a:solidFill>
              <a:ln w="12600">
                <a:solidFill>
                  <a:srgbClr val="063d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4800600" y="5257800"/>
              <a:ext cx="380880" cy="380880"/>
              <a:chOff x="4800600" y="5257800"/>
              <a:chExt cx="380880" cy="380880"/>
            </a:xfrm>
          </p:grpSpPr>
          <p:sp>
            <p:nvSpPr>
              <p:cNvPr id="315" name=""/>
              <p:cNvSpPr/>
              <p:nvPr/>
            </p:nvSpPr>
            <p:spPr>
              <a:xfrm>
                <a:off x="4800600" y="5257800"/>
                <a:ext cx="380880" cy="38088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914720" y="5371920"/>
                <a:ext cx="151920" cy="152640"/>
              </a:xfrm>
              <a:prstGeom prst="ellipse">
                <a:avLst/>
              </a:prstGeom>
              <a:solidFill>
                <a:srgbClr val="063de8"/>
              </a:solidFill>
              <a:ln w="12600">
                <a:solidFill>
                  <a:srgbClr val="063d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7" name=""/>
          <p:cNvSpPr/>
          <p:nvPr/>
        </p:nvSpPr>
        <p:spPr>
          <a:xfrm>
            <a:off x="5029200" y="5448240"/>
            <a:ext cx="457200" cy="0"/>
          </a:xfrm>
          <a:prstGeom prst="line">
            <a:avLst/>
          </a:prstGeom>
          <a:ln w="3816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3962520" y="5867280"/>
            <a:ext cx="2286000" cy="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962520" y="5638680"/>
            <a:ext cx="0" cy="228600"/>
          </a:xfrm>
          <a:prstGeom prst="line">
            <a:avLst/>
          </a:prstGeom>
          <a:ln w="38160">
            <a:solidFill>
              <a:srgbClr val="00ae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5486400" y="5257800"/>
            <a:ext cx="1295280" cy="380880"/>
            <a:chOff x="5486400" y="5257800"/>
            <a:chExt cx="1295280" cy="380880"/>
          </a:xfrm>
        </p:grpSpPr>
        <p:sp>
          <p:nvSpPr>
            <p:cNvPr id="321" name=""/>
            <p:cNvSpPr/>
            <p:nvPr/>
          </p:nvSpPr>
          <p:spPr>
            <a:xfrm>
              <a:off x="5486400" y="5257800"/>
              <a:ext cx="533160" cy="380880"/>
            </a:xfrm>
            <a:prstGeom prst="rect">
              <a:avLst/>
            </a:prstGeom>
            <a:solidFill>
              <a:srgbClr val="618ff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6019560" y="5257800"/>
              <a:ext cx="381240" cy="380880"/>
              <a:chOff x="6019560" y="5257800"/>
              <a:chExt cx="381240" cy="380880"/>
            </a:xfrm>
          </p:grpSpPr>
          <p:sp>
            <p:nvSpPr>
              <p:cNvPr id="323" name=""/>
              <p:cNvSpPr/>
              <p:nvPr/>
            </p:nvSpPr>
            <p:spPr>
              <a:xfrm>
                <a:off x="6019560" y="5257800"/>
                <a:ext cx="381240" cy="38088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134040" y="5371920"/>
                <a:ext cx="152280" cy="152640"/>
              </a:xfrm>
              <a:prstGeom prst="ellipse">
                <a:avLst/>
              </a:prstGeom>
              <a:solidFill>
                <a:srgbClr val="063de8"/>
              </a:solidFill>
              <a:ln w="12600">
                <a:solidFill>
                  <a:srgbClr val="063d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6400800" y="5257800"/>
              <a:ext cx="380880" cy="380880"/>
              <a:chOff x="6400800" y="5257800"/>
              <a:chExt cx="380880" cy="380880"/>
            </a:xfrm>
          </p:grpSpPr>
          <p:sp>
            <p:nvSpPr>
              <p:cNvPr id="326" name=""/>
              <p:cNvSpPr/>
              <p:nvPr/>
            </p:nvSpPr>
            <p:spPr>
              <a:xfrm>
                <a:off x="6400800" y="5257800"/>
                <a:ext cx="380880" cy="38088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514920" y="5371920"/>
                <a:ext cx="151920" cy="152640"/>
              </a:xfrm>
              <a:prstGeom prst="ellipse">
                <a:avLst/>
              </a:prstGeom>
              <a:solidFill>
                <a:srgbClr val="063de8"/>
              </a:solidFill>
              <a:ln w="12600">
                <a:solidFill>
                  <a:srgbClr val="063d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8" name=""/>
          <p:cNvSpPr/>
          <p:nvPr/>
        </p:nvSpPr>
        <p:spPr>
          <a:xfrm>
            <a:off x="6629400" y="5448240"/>
            <a:ext cx="457200" cy="0"/>
          </a:xfrm>
          <a:prstGeom prst="line">
            <a:avLst/>
          </a:prstGeom>
          <a:ln w="3816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5562720" y="6019920"/>
            <a:ext cx="2286000" cy="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2720" y="5638680"/>
            <a:ext cx="0" cy="381240"/>
          </a:xfrm>
          <a:prstGeom prst="line">
            <a:avLst/>
          </a:prstGeom>
          <a:ln w="38160">
            <a:solidFill>
              <a:srgbClr val="00ae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7086600" y="5257800"/>
            <a:ext cx="1295280" cy="380880"/>
            <a:chOff x="7086600" y="5257800"/>
            <a:chExt cx="1295280" cy="380880"/>
          </a:xfrm>
        </p:grpSpPr>
        <p:sp>
          <p:nvSpPr>
            <p:cNvPr id="332" name=""/>
            <p:cNvSpPr/>
            <p:nvPr/>
          </p:nvSpPr>
          <p:spPr>
            <a:xfrm>
              <a:off x="7086600" y="5257800"/>
              <a:ext cx="533160" cy="380880"/>
            </a:xfrm>
            <a:prstGeom prst="rect">
              <a:avLst/>
            </a:prstGeom>
            <a:solidFill>
              <a:srgbClr val="618ff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19760" y="5257800"/>
              <a:ext cx="381240" cy="380880"/>
              <a:chOff x="7619760" y="5257800"/>
              <a:chExt cx="381240" cy="380880"/>
            </a:xfrm>
          </p:grpSpPr>
          <p:sp>
            <p:nvSpPr>
              <p:cNvPr id="334" name=""/>
              <p:cNvSpPr/>
              <p:nvPr/>
            </p:nvSpPr>
            <p:spPr>
              <a:xfrm>
                <a:off x="7619760" y="5257800"/>
                <a:ext cx="381240" cy="38088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734240" y="5371920"/>
                <a:ext cx="152280" cy="152640"/>
              </a:xfrm>
              <a:prstGeom prst="ellipse">
                <a:avLst/>
              </a:prstGeom>
              <a:solidFill>
                <a:srgbClr val="063de8"/>
              </a:solidFill>
              <a:ln w="12600">
                <a:solidFill>
                  <a:srgbClr val="063d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8001000" y="5257800"/>
              <a:ext cx="380880" cy="380880"/>
              <a:chOff x="8001000" y="5257800"/>
              <a:chExt cx="380880" cy="380880"/>
            </a:xfrm>
          </p:grpSpPr>
          <p:sp>
            <p:nvSpPr>
              <p:cNvPr id="337" name=""/>
              <p:cNvSpPr/>
              <p:nvPr/>
            </p:nvSpPr>
            <p:spPr>
              <a:xfrm>
                <a:off x="8001000" y="5257800"/>
                <a:ext cx="380880" cy="38088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8115120" y="5371920"/>
                <a:ext cx="151920" cy="152640"/>
              </a:xfrm>
              <a:prstGeom prst="ellipse">
                <a:avLst/>
              </a:prstGeom>
              <a:solidFill>
                <a:srgbClr val="063de8"/>
              </a:solidFill>
              <a:ln w="12600">
                <a:solidFill>
                  <a:srgbClr val="063d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9" name=""/>
          <p:cNvSpPr/>
          <p:nvPr/>
        </p:nvSpPr>
        <p:spPr>
          <a:xfrm>
            <a:off x="7848720" y="5486400"/>
            <a:ext cx="0" cy="53352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248520" y="5486400"/>
            <a:ext cx="0" cy="38088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5200" y="495288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45400" y="495288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545600" y="495288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3962160" y="4724280"/>
            <a:ext cx="4267080" cy="0"/>
          </a:xfrm>
          <a:prstGeom prst="line">
            <a:avLst/>
          </a:prstGeom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229600" y="4724280"/>
            <a:ext cx="0" cy="685800"/>
          </a:xfrm>
          <a:prstGeom prst="line">
            <a:avLst/>
          </a:prstGeom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3962520" y="4724280"/>
            <a:ext cx="0" cy="533520"/>
          </a:xfrm>
          <a:prstGeom prst="line">
            <a:avLst/>
          </a:prstGeom>
          <a:ln w="38160">
            <a:solidFill>
              <a:srgbClr val="063de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648320" y="4952880"/>
            <a:ext cx="0" cy="3812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4952880"/>
            <a:ext cx="2590560" cy="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7238880" y="4952520"/>
            <a:ext cx="0" cy="304920"/>
          </a:xfrm>
          <a:prstGeom prst="line">
            <a:avLst/>
          </a:prstGeom>
          <a:ln w="38160">
            <a:solidFill>
              <a:srgbClr val="00ae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445360" y="2859120"/>
            <a:ext cx="2674800" cy="509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e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optiona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Array Limitation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r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Simple, 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Fast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but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Must specify size at construction time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Murphy’s law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11811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uct an array with space 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63de8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63de8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= twice your estimate of largest collection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811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morrow you’ll nee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More flexible system?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Linked List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exible space u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Dynamically allocate space for each element as needed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Include a pointer to the next item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c0128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Linked li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Each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ode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of the list contains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11811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ata ite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n object pointer in our AD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ointer to the next n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4952880"/>
            <a:ext cx="914400" cy="6098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90920" y="4952880"/>
            <a:ext cx="838080" cy="6098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52840" y="495288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7240" y="495288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6095880"/>
            <a:ext cx="1219320" cy="533520"/>
          </a:xfrm>
          <a:prstGeom prst="ellipse">
            <a:avLst/>
          </a:prstGeom>
          <a:solidFill>
            <a:srgbClr val="618ffd"/>
          </a:solidFill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5334120"/>
            <a:ext cx="152280" cy="152280"/>
          </a:xfrm>
          <a:prstGeom prst="ellipse">
            <a:avLst/>
          </a:prstGeom>
          <a:solidFill>
            <a:srgbClr val="063de8"/>
          </a:solidFill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9" idx="4"/>
            <a:endCxn id="48" idx="0"/>
          </p:cNvCxnSpPr>
          <p:nvPr/>
        </p:nvCxnSpPr>
        <p:spPr>
          <a:xfrm flipH="1" rot="16200000">
            <a:off x="2104200" y="5514840"/>
            <a:ext cx="591120" cy="533880"/>
          </a:xfrm>
          <a:prstGeom prst="curvedConnector5">
            <a:avLst>
              <a:gd name="adj1" fmla="val 51553"/>
              <a:gd name="adj2" fmla="val 50000"/>
              <a:gd name="adj3" fmla="val 51553"/>
            </a:avLst>
          </a:prstGeom>
          <a:ln w="38160">
            <a:solidFill>
              <a:srgbClr val="063de8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2210400" y="615636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Linked List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ection structure has a pointer to the list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he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Initially NULL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3505320"/>
            <a:ext cx="914400" cy="6094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53560" y="350532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57400" y="3886200"/>
            <a:ext cx="152280" cy="152280"/>
          </a:xfrm>
          <a:prstGeom prst="ellipse">
            <a:avLst/>
          </a:prstGeom>
          <a:solidFill>
            <a:srgbClr val="063de8"/>
          </a:solidFill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680" y="304812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Linked List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marL="194040" indent="-194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ection structure has a pointer to the list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he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-1940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Initially NULL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194040" indent="-194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first i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-1940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llocate space for nod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518040" indent="-1940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et its data pointer to objec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518040" indent="-1940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et Next to NULL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518040" indent="-1940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et Head to point to new nod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495680" y="4952880"/>
            <a:ext cx="1752480" cy="1676520"/>
            <a:chOff x="4495680" y="4952880"/>
            <a:chExt cx="1752480" cy="1676520"/>
          </a:xfrm>
        </p:grpSpPr>
        <p:sp>
          <p:nvSpPr>
            <p:cNvPr id="61" name=""/>
            <p:cNvSpPr/>
            <p:nvPr/>
          </p:nvSpPr>
          <p:spPr>
            <a:xfrm>
              <a:off x="4495680" y="4952880"/>
              <a:ext cx="914400" cy="60984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10080" y="4952880"/>
              <a:ext cx="838080" cy="60984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572000" y="495288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486400" y="495288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76560" y="6095880"/>
              <a:ext cx="1219320" cy="533520"/>
            </a:xfrm>
            <a:prstGeom prst="ellipse">
              <a:avLst/>
            </a:prstGeom>
            <a:solidFill>
              <a:srgbClr val="618ffd"/>
            </a:solidFill>
            <a:ln w="381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560" y="5334120"/>
              <a:ext cx="152280" cy="152280"/>
            </a:xfrm>
            <a:prstGeom prst="ellipse">
              <a:avLst/>
            </a:prstGeom>
            <a:solidFill>
              <a:srgbClr val="063de8"/>
            </a:solidFill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66" idx="4"/>
              <a:endCxn id="65" idx="0"/>
            </p:cNvCxnSpPr>
            <p:nvPr/>
          </p:nvCxnSpPr>
          <p:spPr>
            <a:xfrm flipH="1" rot="16200000">
              <a:off x="4923360" y="5514840"/>
              <a:ext cx="591120" cy="533880"/>
            </a:xfrm>
            <a:prstGeom prst="curvedConnector5">
              <a:avLst>
                <a:gd name="adj1" fmla="val 51553"/>
                <a:gd name="adj2" fmla="val 50000"/>
                <a:gd name="adj3" fmla="val 51553"/>
              </a:avLst>
            </a:prstGeom>
            <a:ln w="38160">
              <a:solidFill>
                <a:srgbClr val="063de8"/>
              </a:solidFill>
              <a:miter/>
              <a:tailEnd len="med" type="triangle" w="med"/>
            </a:ln>
          </p:spPr>
        </p:cxnSp>
        <p:sp>
          <p:nvSpPr>
            <p:cNvPr id="68" name=""/>
            <p:cNvSpPr/>
            <p:nvPr/>
          </p:nvSpPr>
          <p:spPr>
            <a:xfrm>
              <a:off x="5029560" y="6156360"/>
              <a:ext cx="93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1981080" y="4648320"/>
            <a:ext cx="914400" cy="6094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8480" y="464832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62320" y="5029200"/>
            <a:ext cx="152280" cy="152280"/>
          </a:xfrm>
          <a:prstGeom prst="ellipse">
            <a:avLst/>
          </a:prstGeom>
          <a:solidFill>
            <a:srgbClr val="063de8"/>
          </a:solidFill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71" idx="6"/>
            <a:endCxn id="61" idx="1"/>
          </p:cNvCxnSpPr>
          <p:nvPr/>
        </p:nvCxnSpPr>
        <p:spPr>
          <a:xfrm>
            <a:off x="2514600" y="5105160"/>
            <a:ext cx="1962720" cy="153000"/>
          </a:xfrm>
          <a:prstGeom prst="curvedConnector5">
            <a:avLst>
              <a:gd name="adj1" fmla="val 50467"/>
              <a:gd name="adj2" fmla="val 50000"/>
              <a:gd name="adj3" fmla="val 50467"/>
            </a:avLst>
          </a:prstGeom>
          <a:ln w="38160">
            <a:solidFill>
              <a:srgbClr val="063de8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1524240" y="419112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44840" y="449568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91320" y="5334120"/>
            <a:ext cx="152280" cy="152280"/>
          </a:xfrm>
          <a:prstGeom prst="ellipse">
            <a:avLst/>
          </a:prstGeom>
          <a:solidFill>
            <a:srgbClr val="063de8"/>
          </a:solidFill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Linked List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second i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800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llocate space for nod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6640" indent="-2800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et its data pointer to objec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6640" indent="-2800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et Next to current Head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6640" indent="-2800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et Head to point to new nod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934320" y="4952880"/>
            <a:ext cx="1752480" cy="1676520"/>
            <a:chOff x="6934320" y="4952880"/>
            <a:chExt cx="1752480" cy="1676520"/>
          </a:xfrm>
        </p:grpSpPr>
        <p:sp>
          <p:nvSpPr>
            <p:cNvPr id="79" name=""/>
            <p:cNvSpPr/>
            <p:nvPr/>
          </p:nvSpPr>
          <p:spPr>
            <a:xfrm>
              <a:off x="6934320" y="4952880"/>
              <a:ext cx="914400" cy="60984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48720" y="4952880"/>
              <a:ext cx="838080" cy="60984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010640" y="495288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5040" y="495288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15200" y="6095880"/>
              <a:ext cx="1219320" cy="533520"/>
            </a:xfrm>
            <a:prstGeom prst="ellipse">
              <a:avLst/>
            </a:prstGeom>
            <a:solidFill>
              <a:srgbClr val="618ffd"/>
            </a:solidFill>
            <a:ln w="381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315200" y="5334120"/>
              <a:ext cx="152280" cy="152280"/>
            </a:xfrm>
            <a:prstGeom prst="ellipse">
              <a:avLst/>
            </a:prstGeom>
            <a:solidFill>
              <a:srgbClr val="063de8"/>
            </a:solidFill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5" name=""/>
            <p:cNvCxnSpPr>
              <a:stCxn id="84" idx="4"/>
              <a:endCxn id="83" idx="0"/>
            </p:cNvCxnSpPr>
            <p:nvPr/>
          </p:nvCxnSpPr>
          <p:spPr>
            <a:xfrm flipH="1" rot="16200000">
              <a:off x="7362000" y="5514840"/>
              <a:ext cx="591120" cy="533880"/>
            </a:xfrm>
            <a:prstGeom prst="curvedConnector5">
              <a:avLst>
                <a:gd name="adj1" fmla="val 51553"/>
                <a:gd name="adj2" fmla="val 50000"/>
                <a:gd name="adj3" fmla="val 51553"/>
              </a:avLst>
            </a:prstGeom>
            <a:ln w="38160">
              <a:solidFill>
                <a:srgbClr val="063de8"/>
              </a:solidFill>
              <a:miter/>
              <a:tailEnd len="med" type="triangle" w="med"/>
            </a:ln>
          </p:spPr>
        </p:cxnSp>
        <p:sp>
          <p:nvSpPr>
            <p:cNvPr id="86" name=""/>
            <p:cNvSpPr/>
            <p:nvPr/>
          </p:nvSpPr>
          <p:spPr>
            <a:xfrm>
              <a:off x="7468200" y="6156360"/>
              <a:ext cx="93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2514600" y="3505320"/>
            <a:ext cx="914400" cy="6094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92000" y="350532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19520" y="3886200"/>
            <a:ext cx="152280" cy="152280"/>
          </a:xfrm>
          <a:prstGeom prst="ellipse">
            <a:avLst/>
          </a:prstGeom>
          <a:solidFill>
            <a:srgbClr val="063de8"/>
          </a:solidFill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79" idx="1"/>
          </p:cNvCxnSpPr>
          <p:nvPr/>
        </p:nvCxnSpPr>
        <p:spPr>
          <a:xfrm>
            <a:off x="2971800" y="3962520"/>
            <a:ext cx="3944160" cy="1296000"/>
          </a:xfrm>
          <a:prstGeom prst="curvedConnector5">
            <a:avLst>
              <a:gd name="adj1" fmla="val 50232"/>
              <a:gd name="adj2" fmla="val 49986"/>
              <a:gd name="adj3" fmla="val 50232"/>
            </a:avLst>
          </a:prstGeom>
          <a:ln w="38160">
            <a:solidFill>
              <a:srgbClr val="063de8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2057760" y="304812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3480" y="449568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229600" y="5334120"/>
            <a:ext cx="152280" cy="152280"/>
          </a:xfrm>
          <a:prstGeom prst="ellipse">
            <a:avLst/>
          </a:prstGeom>
          <a:solidFill>
            <a:srgbClr val="063de8"/>
          </a:solidFill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038480" y="4800600"/>
            <a:ext cx="1752480" cy="1676520"/>
            <a:chOff x="4038480" y="4800600"/>
            <a:chExt cx="1752480" cy="1676520"/>
          </a:xfrm>
        </p:grpSpPr>
        <p:sp>
          <p:nvSpPr>
            <p:cNvPr id="95" name=""/>
            <p:cNvSpPr/>
            <p:nvPr/>
          </p:nvSpPr>
          <p:spPr>
            <a:xfrm>
              <a:off x="4038480" y="4800600"/>
              <a:ext cx="914400" cy="60984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952880" y="4800600"/>
              <a:ext cx="838080" cy="60984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114800" y="480060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29200" y="480060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19360" y="5943600"/>
              <a:ext cx="1219320" cy="533520"/>
            </a:xfrm>
            <a:prstGeom prst="ellipse">
              <a:avLst/>
            </a:prstGeom>
            <a:solidFill>
              <a:srgbClr val="618ffd"/>
            </a:solidFill>
            <a:ln w="381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419360" y="5181840"/>
              <a:ext cx="152280" cy="152280"/>
            </a:xfrm>
            <a:prstGeom prst="ellipse">
              <a:avLst/>
            </a:prstGeom>
            <a:solidFill>
              <a:srgbClr val="063de8"/>
            </a:solidFill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1" name=""/>
            <p:cNvCxnSpPr>
              <a:stCxn id="100" idx="4"/>
              <a:endCxn id="99" idx="0"/>
            </p:cNvCxnSpPr>
            <p:nvPr/>
          </p:nvCxnSpPr>
          <p:spPr>
            <a:xfrm flipH="1" rot="16200000">
              <a:off x="4466160" y="5362560"/>
              <a:ext cx="591120" cy="533880"/>
            </a:xfrm>
            <a:prstGeom prst="curvedConnector5">
              <a:avLst>
                <a:gd name="adj1" fmla="val 51553"/>
                <a:gd name="adj2" fmla="val 50000"/>
                <a:gd name="adj3" fmla="val 51553"/>
              </a:avLst>
            </a:prstGeom>
            <a:ln w="38160">
              <a:solidFill>
                <a:srgbClr val="063de8"/>
              </a:solidFill>
              <a:miter/>
              <a:tailEnd len="med" type="triangle" w="med"/>
            </a:ln>
          </p:spPr>
        </p:cxnSp>
        <p:sp>
          <p:nvSpPr>
            <p:cNvPr id="102" name=""/>
            <p:cNvSpPr/>
            <p:nvPr/>
          </p:nvSpPr>
          <p:spPr>
            <a:xfrm>
              <a:off x="4572000" y="6004080"/>
              <a:ext cx="107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bject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3887640" y="434340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5181480"/>
            <a:ext cx="152280" cy="152640"/>
          </a:xfrm>
          <a:prstGeom prst="ellipse">
            <a:avLst/>
          </a:prstGeom>
          <a:solidFill>
            <a:srgbClr val="063de8"/>
          </a:solidFill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4" idx="6"/>
            <a:endCxn id="79" idx="1"/>
          </p:cNvCxnSpPr>
          <p:nvPr/>
        </p:nvCxnSpPr>
        <p:spPr>
          <a:xfrm>
            <a:off x="5486040" y="5257440"/>
            <a:ext cx="1429560" cy="1080"/>
          </a:xfrm>
          <a:prstGeom prst="curvedConnector2">
            <a:avLst/>
          </a:prstGeom>
          <a:ln w="38160">
            <a:solidFill>
              <a:srgbClr val="063de8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3048120" y="3860640"/>
            <a:ext cx="2361960" cy="1168560"/>
          </a:xfrm>
          <a:custGeom>
            <a:avLst/>
            <a:gdLst/>
            <a:ahLst/>
            <a:rect l="l" t="t" r="r" b="b"/>
            <a:pathLst>
              <a:path w="1488" h="736">
                <a:moveTo>
                  <a:pt x="0" y="64"/>
                </a:moveTo>
                <a:cubicBezTo>
                  <a:pt x="476" y="32"/>
                  <a:pt x="952" y="0"/>
                  <a:pt x="1200" y="112"/>
                </a:cubicBezTo>
                <a:cubicBezTo>
                  <a:pt x="1448" y="224"/>
                  <a:pt x="1448" y="632"/>
                  <a:pt x="1488" y="736"/>
                </a:cubicBezTo>
              </a:path>
            </a:pathLst>
          </a:custGeom>
          <a:noFill/>
          <a:ln w="28440">
            <a:solidFill>
              <a:srgbClr val="00ae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266720" y="4114800"/>
            <a:ext cx="228600" cy="15228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4114800"/>
            <a:ext cx="228600" cy="15228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89" idx="4"/>
            <a:endCxn id="95" idx="1"/>
          </p:cNvCxnSpPr>
          <p:nvPr/>
        </p:nvCxnSpPr>
        <p:spPr>
          <a:xfrm flipH="1" rot="16200000">
            <a:off x="2923920" y="4009680"/>
            <a:ext cx="1067760" cy="1124640"/>
          </a:xfrm>
          <a:prstGeom prst="curvedConnector2">
            <a:avLst/>
          </a:prstGeom>
          <a:ln w="38160">
            <a:solidFill>
              <a:srgbClr val="063de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Linked Lists -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implementa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8480" y="1676520"/>
            <a:ext cx="76482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uct t_nod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*item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struct t_node *nex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} nod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def struct t_node *Nod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uct collection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de hea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AddToCollection( Collection c, void *item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de new = malloc( sizeof( struct t_node )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-&gt;item = ite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-&gt;next = c-&gt;head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c-&gt;head = new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76520" y="2362320"/>
            <a:ext cx="3429000" cy="304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Linked Lists -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implementa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68480" y="1676520"/>
            <a:ext cx="76482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uct t_nod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*item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struct t_node *nex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} nod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def struct t_node *Nod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uct collection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de hea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AddToCollection( Collection c, void *item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de new = malloc( sizeof( struct t_node )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-&gt;item = ite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-&gt;next = c-&gt;head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c-&gt;head = new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0880" y="2133720"/>
            <a:ext cx="336276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ursive type definition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 allows i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876920" y="2514600"/>
            <a:ext cx="457200" cy="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11480" y="5715000"/>
            <a:ext cx="3084840" cy="779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84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ror checking, asse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mitted for clarit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5105520"/>
            <a:ext cx="1143000" cy="0"/>
          </a:xfrm>
          <a:prstGeom prst="line">
            <a:avLst/>
          </a:prstGeom>
          <a:ln w="28440">
            <a:solidFill>
              <a:srgbClr val="063de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4120" y="5105520"/>
            <a:ext cx="0" cy="761760"/>
          </a:xfrm>
          <a:prstGeom prst="line">
            <a:avLst/>
          </a:prstGeom>
          <a:ln w="284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334120" y="5867280"/>
            <a:ext cx="457200" cy="0"/>
          </a:xfrm>
          <a:prstGeom prst="line">
            <a:avLst/>
          </a:prstGeom>
          <a:ln w="284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8686800" y="4800600"/>
            <a:ext cx="0" cy="914400"/>
          </a:xfrm>
          <a:prstGeom prst="line">
            <a:avLst/>
          </a:prstGeom>
          <a:ln w="284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0120" y="4800600"/>
            <a:ext cx="1066680" cy="0"/>
          </a:xfrm>
          <a:prstGeom prst="line">
            <a:avLst/>
          </a:prstGeom>
          <a:ln w="28440">
            <a:solidFill>
              <a:srgbClr val="063de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Linked List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Constant - independent of n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Worst case - n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364440" y="4572000"/>
            <a:ext cx="1752480" cy="1676520"/>
            <a:chOff x="6364440" y="4572000"/>
            <a:chExt cx="1752480" cy="1676520"/>
          </a:xfrm>
        </p:grpSpPr>
        <p:sp>
          <p:nvSpPr>
            <p:cNvPr id="128" name=""/>
            <p:cNvSpPr/>
            <p:nvPr/>
          </p:nvSpPr>
          <p:spPr>
            <a:xfrm>
              <a:off x="6364440" y="4572000"/>
              <a:ext cx="914400" cy="60984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278840" y="4572000"/>
              <a:ext cx="838080" cy="60984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40760" y="457200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55160" y="457200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745320" y="5715000"/>
              <a:ext cx="1219320" cy="533520"/>
            </a:xfrm>
            <a:prstGeom prst="ellipse">
              <a:avLst/>
            </a:prstGeom>
            <a:solidFill>
              <a:srgbClr val="618ffd"/>
            </a:solidFill>
            <a:ln w="381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745320" y="4953240"/>
              <a:ext cx="152280" cy="152280"/>
            </a:xfrm>
            <a:prstGeom prst="ellipse">
              <a:avLst/>
            </a:prstGeom>
            <a:solidFill>
              <a:srgbClr val="063de8"/>
            </a:solidFill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4" name=""/>
            <p:cNvCxnSpPr>
              <a:stCxn id="133" idx="4"/>
              <a:endCxn id="132" idx="0"/>
            </p:cNvCxnSpPr>
            <p:nvPr/>
          </p:nvCxnSpPr>
          <p:spPr>
            <a:xfrm flipH="1" rot="16200000">
              <a:off x="6792120" y="5133960"/>
              <a:ext cx="591120" cy="533880"/>
            </a:xfrm>
            <a:prstGeom prst="curvedConnector5">
              <a:avLst>
                <a:gd name="adj1" fmla="val 51553"/>
                <a:gd name="adj2" fmla="val 50000"/>
                <a:gd name="adj3" fmla="val 51553"/>
              </a:avLst>
            </a:prstGeom>
            <a:ln w="38160">
              <a:solidFill>
                <a:srgbClr val="063de8"/>
              </a:solidFill>
              <a:miter/>
              <a:tailEnd len="med" type="triangle" w="med"/>
            </a:ln>
          </p:spPr>
        </p:cxnSp>
        <p:sp>
          <p:nvSpPr>
            <p:cNvPr id="135" name=""/>
            <p:cNvSpPr/>
            <p:nvPr/>
          </p:nvSpPr>
          <p:spPr>
            <a:xfrm>
              <a:off x="6898320" y="5775480"/>
              <a:ext cx="93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335240" y="3581280"/>
            <a:ext cx="914400" cy="6098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68000" y="358128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39800" y="3962520"/>
            <a:ext cx="152640" cy="152280"/>
          </a:xfrm>
          <a:prstGeom prst="ellipse">
            <a:avLst/>
          </a:prstGeom>
          <a:solidFill>
            <a:srgbClr val="063de8"/>
          </a:solidFill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8440" y="32004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13600" y="411480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59720" y="4952880"/>
            <a:ext cx="152280" cy="152640"/>
          </a:xfrm>
          <a:prstGeom prst="ellipse">
            <a:avLst/>
          </a:prstGeom>
          <a:solidFill>
            <a:srgbClr val="063de8"/>
          </a:solidFill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468600" y="4419720"/>
            <a:ext cx="1752480" cy="1675800"/>
            <a:chOff x="3468600" y="4419720"/>
            <a:chExt cx="1752480" cy="1675800"/>
          </a:xfrm>
        </p:grpSpPr>
        <p:sp>
          <p:nvSpPr>
            <p:cNvPr id="143" name=""/>
            <p:cNvSpPr/>
            <p:nvPr/>
          </p:nvSpPr>
          <p:spPr>
            <a:xfrm>
              <a:off x="3468600" y="4419720"/>
              <a:ext cx="914400" cy="6094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83000" y="4419720"/>
              <a:ext cx="838080" cy="6094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544920" y="441972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59320" y="441972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49480" y="5562360"/>
              <a:ext cx="1219320" cy="533160"/>
            </a:xfrm>
            <a:prstGeom prst="ellipse">
              <a:avLst/>
            </a:prstGeom>
            <a:solidFill>
              <a:srgbClr val="618ffd"/>
            </a:solidFill>
            <a:ln w="381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49480" y="4800600"/>
              <a:ext cx="152280" cy="151920"/>
            </a:xfrm>
            <a:prstGeom prst="ellipse">
              <a:avLst/>
            </a:prstGeom>
            <a:solidFill>
              <a:srgbClr val="063de8"/>
            </a:solidFill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48" idx="4"/>
              <a:endCxn id="147" idx="0"/>
            </p:cNvCxnSpPr>
            <p:nvPr/>
          </p:nvCxnSpPr>
          <p:spPr>
            <a:xfrm flipH="1" rot="16200000">
              <a:off x="3896280" y="4980960"/>
              <a:ext cx="590760" cy="533880"/>
            </a:xfrm>
            <a:prstGeom prst="curvedConnector5">
              <a:avLst>
                <a:gd name="adj1" fmla="val 51585"/>
                <a:gd name="adj2" fmla="val 50000"/>
                <a:gd name="adj3" fmla="val 51585"/>
              </a:avLst>
            </a:prstGeom>
            <a:ln w="38160">
              <a:solidFill>
                <a:srgbClr val="063de8"/>
              </a:solidFill>
              <a:miter/>
              <a:tailEnd len="med" type="triangle" w="med"/>
            </a:ln>
          </p:spPr>
        </p:cxnSp>
        <p:sp>
          <p:nvSpPr>
            <p:cNvPr id="150" name=""/>
            <p:cNvSpPr/>
            <p:nvPr/>
          </p:nvSpPr>
          <p:spPr>
            <a:xfrm>
              <a:off x="4002120" y="5622840"/>
              <a:ext cx="107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bject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317760" y="396252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764240" y="4800600"/>
            <a:ext cx="152280" cy="152280"/>
          </a:xfrm>
          <a:prstGeom prst="ellipse">
            <a:avLst/>
          </a:prstGeom>
          <a:solidFill>
            <a:srgbClr val="063de8"/>
          </a:solidFill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52" idx="6"/>
            <a:endCxn id="128" idx="1"/>
          </p:cNvCxnSpPr>
          <p:nvPr/>
        </p:nvCxnSpPr>
        <p:spPr>
          <a:xfrm>
            <a:off x="4916160" y="4876560"/>
            <a:ext cx="1429560" cy="1080"/>
          </a:xfrm>
          <a:prstGeom prst="curvedConnector2">
            <a:avLst/>
          </a:prstGeom>
          <a:ln w="38160">
            <a:solidFill>
              <a:srgbClr val="063de8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38" idx="4"/>
            <a:endCxn id="143" idx="1"/>
          </p:cNvCxnSpPr>
          <p:nvPr/>
        </p:nvCxnSpPr>
        <p:spPr>
          <a:xfrm flipH="1" rot="16200000">
            <a:off x="2277000" y="3552480"/>
            <a:ext cx="610200" cy="1734120"/>
          </a:xfrm>
          <a:prstGeom prst="curvedConnector2">
            <a:avLst/>
          </a:prstGeom>
          <a:ln w="38160">
            <a:solidFill>
              <a:srgbClr val="063de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9T14:00:16Z</dcterms:created>
  <dc:creator>jm</dc:creator>
  <dc:description/>
  <dc:language>en-US</dc:language>
  <cp:lastModifiedBy>jm</cp:lastModifiedBy>
  <cp:lastPrinted>1998-09-08T10:49:38Z</cp:lastPrinted>
  <dcterms:modified xsi:type="dcterms:W3CDTF">1999-07-13T03:44:50Z</dcterms:modified>
  <cp:revision>5</cp:revision>
  <dc:subject/>
  <dc:title>PLSD210(ii)</dc:title>
</cp:coreProperties>
</file>